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800" spc="-1" strike="noStrike">
                <a:solidFill>
                  <a:srgbClr val="775f55"/>
                </a:solidFill>
                <a:latin typeface="Lucida Sans Unicode"/>
              </a:rPr>
              <a:t>Click to move the slide</a:t>
            </a: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tituto comprensivo Lucca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4863-69B3-44B7-B93B-D8F214FEC42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piè di pagina 2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tituto comprensivo Lucca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egnaposto piè di pagina 2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tituto comprensivo Lucca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egnaposto piè di pagina 2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tituto comprensivo Lucca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egnaposto piè di pagina 2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tituto comprensivo Lucca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egnaposto piè di pagina 2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stituto comprensivo Lucca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778-6019-44C2-A945-A749D5DC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AFA-7AF9-4B03-B95A-997EFE7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00C-EE1B-4DD6-A0DD-717C59A2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124-43A1-40E4-9509-8426D155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43F9-0AFE-48F4-8409-B33AFB0C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F35B-7287-4B8C-97F6-A05A017A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861B-D37F-432B-967C-AAB62ABE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F01D-1AC2-416E-8E66-5DE43349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92E6-209D-4DEC-9A90-31F95D36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0445-4BDF-4790-973C-9C82CB81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8406-88CE-433D-8630-18DE1271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F8A-0849-4A00-BDE3-6EF038A0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B497-4D65-4E0B-8A81-C72353EB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1972-C992-4D75-94A0-154CC553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91E6-A9AC-4159-8DBA-F29146B2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A027-5E03-49DE-A494-21AD944B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D907-94BE-4A8A-8A85-967C00D9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3D2-93F7-4575-B5CB-FC0BB6FD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A20-F981-4743-828F-3251AF3A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D44-D8D1-481D-85E1-983A7711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90E-8568-47E4-954A-04F589D4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00B-9C5B-47C5-9AE3-82892F9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641-38FC-4EF9-BBA1-12618020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95B-3D20-4BE2-866E-6D71077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93760" y="6426360"/>
              <a:ext cx="1700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Connettore 1 14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617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Triangolo rettangolo 3"/>
          <p:cNvSpPr/>
          <p:nvPr/>
        </p:nvSpPr>
        <p:spPr>
          <a:xfrm>
            <a:off x="0" y="4664160"/>
            <a:ext cx="9150480" cy="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f7493"/>
              </a:gs>
              <a:gs pos="50000">
                <a:srgbClr val="96bfe4"/>
              </a:gs>
              <a:gs pos="100000">
                <a:srgbClr val="4f7493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Gruppo 15"/>
          <p:cNvGrpSpPr/>
          <p:nvPr/>
        </p:nvGrpSpPr>
        <p:grpSpPr>
          <a:xfrm>
            <a:off x="-3240" y="4952880"/>
            <a:ext cx="9147600" cy="1911600"/>
            <a:chOff x="-3240" y="4952880"/>
            <a:chExt cx="9147600" cy="1911600"/>
          </a:xfrm>
        </p:grpSpPr>
        <p:sp>
          <p:nvSpPr>
            <p:cNvPr id="8" name="Figura a mano libera 5"/>
            <p:cNvSpPr/>
            <p:nvPr/>
          </p:nvSpPr>
          <p:spPr>
            <a:xfrm>
              <a:off x="1687320" y="4952880"/>
              <a:ext cx="7456680" cy="48744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c0d3e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igura a mano libera 6"/>
            <p:cNvSpPr/>
            <p:nvPr/>
          </p:nvSpPr>
          <p:spPr>
            <a:xfrm>
              <a:off x="36360" y="5236920"/>
              <a:ext cx="9107640" cy="78912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" name="Figura a mano libera 7"/>
            <p:cNvGrpSpPr/>
            <p:nvPr/>
          </p:nvGrpSpPr>
          <p:grpSpPr>
            <a:xfrm>
              <a:off x="0" y="4998600"/>
              <a:ext cx="9144360" cy="1865880"/>
              <a:chOff x="0" y="4998600"/>
              <a:chExt cx="9144360" cy="1865880"/>
            </a:xfrm>
          </p:grpSpPr>
          <p:pic>
            <p:nvPicPr>
              <p:cNvPr id="11" name="Figura a mano libera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998600"/>
                <a:ext cx="9144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"/>
              <p:cNvSpPr/>
              <p:nvPr/>
            </p:nvSpPr>
            <p:spPr>
              <a:xfrm>
                <a:off x="360" y="5001120"/>
                <a:ext cx="9143640" cy="186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" name="Connettore 1 9"/>
            <p:cNvSpPr/>
            <p:nvPr/>
          </p:nvSpPr>
          <p:spPr>
            <a:xfrm>
              <a:off x="-3240" y="4997160"/>
              <a:ext cx="9147240" cy="790920"/>
            </a:xfrm>
            <a:prstGeom prst="line">
              <a:avLst/>
            </a:prstGeom>
            <a:ln w="12240">
              <a:solidFill>
                <a:srgbClr val="617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8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2207-6581-411A-B23E-A63B06165284}" type="datetime"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0B89-C2C7-4D5A-9BAB-5C19E19F4771}" type="slidenum"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8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93760" y="6426360"/>
              <a:ext cx="1700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Connettore 1 14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617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>
              <a:spcBef>
                <a:spcPts val="6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>
              <a:spcBef>
                <a:spcPts val="6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B748-C6D3-4C03-A073-C23FAF57A46A}" type="datetime"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9/07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8E82-FDA2-4EDF-A601-41BCBCCEDC2A}" type="slidenum">
              <a:rPr b="0" lang="it-IT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22160" y="148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100" spc="-1" strike="noStrike">
                <a:solidFill>
                  <a:srgbClr val="775f55"/>
                </a:solidFill>
                <a:latin typeface="Lucida Sans Unicode"/>
                <a:ea typeface="Mangal"/>
              </a:rPr>
              <a:t>Istituto comprensivo Lucca 2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843280" y="297000"/>
            <a:ext cx="3529080" cy="107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8360" y="5661000"/>
            <a:ext cx="1942920" cy="64764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3"/>
          <p:cNvSpPr/>
          <p:nvPr/>
        </p:nvSpPr>
        <p:spPr>
          <a:xfrm>
            <a:off x="855720" y="2133720"/>
            <a:ext cx="7488360" cy="2105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OINVOLGIMENTO DIRET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RDINI DI SCUOLA 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maria e sec. I gr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LASSI 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5 classi quinte di scuola primar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8 classi terze di scuola sec. I gr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MERO DOCENTI: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MMISSIONE DI LAVORO: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ottogruppo della commissione valutazi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UDIT DELL’USR TOSCANA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5 giugno 201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asellaDiTesto 6"/>
          <p:cNvSpPr/>
          <p:nvPr/>
        </p:nvSpPr>
        <p:spPr>
          <a:xfrm>
            <a:off x="887400" y="4386240"/>
            <a:ext cx="7489800" cy="12826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OINVOLGIMENTO INDIRET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RDINI DI SCUOLA 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fanzi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imaria - sec. I gr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ZIONI E CLASSI 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MERO DOCENTI: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4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4200" y="11556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24 febbraio 2015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:  diffusione per email della C.M. 3 del 13.02.15 per una lettura individuale 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fine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febbraio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: costituzione di gruppi di lettura (eterogenei rispetto ai plessi, alle discipline insegnate, alle classi) del documento e designazione di un referente per ciascuno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2 marzo 2015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: i referenti di ciascun gruppo si incontrano per definire una griglia di lettura e per condividere la gestione della lettura del documento. Si forniscono  ai gruppi anche i documenti sulle competenze chiave europee e i livelli EQF per un migliore apprezzamento della CM.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4 marzo 2015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: incontro dei gruppi.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6 marzo 2015</a:t>
            </a:r>
            <a:r>
              <a:rPr b="1" lang="it-IT" sz="13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analisi delle osservazioni prodotte durante gli incontri dal parte del D.S. e sua collaboratrice. </a:t>
            </a:r>
            <a:br>
              <a:rPr sz="1300"/>
            </a:br>
            <a:r>
              <a:rPr b="0" i="1" lang="it-IT" sz="1600" spc="-1" strike="noStrike">
                <a:solidFill>
                  <a:srgbClr val="000000"/>
                </a:solidFill>
                <a:latin typeface="Lucida Sans Unicode"/>
              </a:rPr>
              <a:t>Tre diretti e immediati risultati:</a:t>
            </a:r>
            <a:br>
              <a:rPr sz="1600"/>
            </a:br>
            <a:r>
              <a:rPr b="0" i="1" lang="it-IT" sz="1600" spc="-1" strike="noStrike">
                <a:solidFill>
                  <a:srgbClr val="000000"/>
                </a:solidFill>
                <a:latin typeface="Lucida Sans Unicode"/>
              </a:rPr>
              <a:t>- il documento orienta la commissione curricolo che, in questo a.s.,  sta costruendo un curricolo per competenze</a:t>
            </a:r>
            <a:br>
              <a:rPr sz="1600"/>
            </a:br>
            <a:r>
              <a:rPr b="0" i="1" lang="it-IT" sz="1600" spc="-1" strike="noStrike">
                <a:solidFill>
                  <a:srgbClr val="000000"/>
                </a:solidFill>
                <a:latin typeface="Lucida Sans Unicode"/>
              </a:rPr>
              <a:t>- incontro per parallele per costruire verifiche finali per compiti autentici </a:t>
            </a:r>
            <a:br>
              <a:rPr sz="1600"/>
            </a:br>
            <a:r>
              <a:rPr b="0" i="1" lang="it-IT" sz="1600" spc="-1" strike="noStrike">
                <a:solidFill>
                  <a:srgbClr val="000000"/>
                </a:solidFill>
                <a:latin typeface="Lucida Sans Unicode"/>
              </a:rPr>
              <a:t>- raccolta di idee per migliorare e rendere più funzionale il modello da sperimentare</a:t>
            </a:r>
            <a:br>
              <a:rPr sz="16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10 marzo 2015  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COLLEGIO INFANZIA PRIMARIA (adesione sperimentazione)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19 marzo 2015 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COLLEGIO SEC. 1° GRADO (adesione sperimentazione)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28 aprile 2015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: incontro per parallele (sc. Primaria) / dipartimenti (sc. Sec. 1° grado) per costruire assieme compiti autentici per valutare competenze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30 aprile 2015: 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la Dirigente e la commissione di lavoro partecipano al convegno di Prato.</a:t>
            </a:r>
            <a:br>
              <a:rPr sz="1300"/>
            </a:b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Per essere pronti circa  richieste di opportuni contributi al modello da sperimentare si chiede ai singoli plessi di analizzare la scheda di certificazione delle competenze e di apportare eventuali integrazioni/modifiche</a:t>
            </a:r>
            <a:br>
              <a:rPr sz="1300"/>
            </a:b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La commissione di lavoro analizza le proposte di modifica al modello e ne restituisce una sintesi che la DS approva e  invia a tutti i docenti per conoscenza.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Interclasse completa di fine maggio 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per presentazione modello ai rappresentanti di classe 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Metà giugno 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dopo l’effettivo utilizzo del modello sperimentale proposto dal ministero, si raccolgono le ulteriori osservazioni nate dalla compilazione della scheda e dalla reazione dei genitori (solo per primaria) </a:t>
            </a:r>
            <a:br>
              <a:rPr sz="1300"/>
            </a:br>
            <a:r>
              <a:rPr b="1" lang="it-IT" sz="1300" spc="-1" strike="noStrike">
                <a:solidFill>
                  <a:srgbClr val="002060"/>
                </a:solidFill>
                <a:latin typeface="Lucida Sans Unicode"/>
              </a:rPr>
              <a:t>25 giugno 2015 </a:t>
            </a:r>
            <a:r>
              <a:rPr b="0" lang="it-IT" sz="1300" spc="-1" strike="noStrike">
                <a:solidFill>
                  <a:srgbClr val="000000"/>
                </a:solidFill>
                <a:latin typeface="Lucida Sans Unicode"/>
              </a:rPr>
              <a:t>FOCUS GROUP </a:t>
            </a:r>
            <a:br>
              <a:rPr sz="1300"/>
            </a:br>
            <a:endParaRPr b="1" lang="en-US" sz="13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283520" y="5888160"/>
            <a:ext cx="1860480" cy="582480"/>
          </a:xfrm>
          <a:prstGeom prst="rect">
            <a:avLst/>
          </a:prstGeom>
          <a:ln w="0">
            <a:noFill/>
          </a:ln>
        </p:spPr>
      </p:pic>
      <p:sp>
        <p:nvSpPr>
          <p:cNvPr id="117" name="CasellaDiTesto 1"/>
          <p:cNvSpPr/>
          <p:nvPr/>
        </p:nvSpPr>
        <p:spPr>
          <a:xfrm>
            <a:off x="246240" y="6100920"/>
            <a:ext cx="691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Arial"/>
              </a:rPr>
              <a:t>Autoformazione – Condivisione – Analisi crit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183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Lucida Sans Unicode"/>
              </a:rPr>
              <a:t>Tentiamo di far nostra l’idea che «Il curricolo riesce a riflettere un’immagine omogenea e innovativa della conoscenza lavorando sulle competenze, che fanno emergere gli aspetti del saper fare sulla base di quanto appreso»</a:t>
            </a:r>
            <a:r>
              <a:rPr b="1" lang="it-IT" sz="1400" spc="-1" strike="noStrike" baseline="30000">
                <a:solidFill>
                  <a:srgbClr val="002060"/>
                </a:solidFill>
                <a:latin typeface="Lucida Sans Unicode"/>
              </a:rPr>
              <a:t>1</a:t>
            </a:r>
            <a:br>
              <a:rPr sz="1400"/>
            </a:br>
            <a:r>
              <a:rPr b="1" lang="it-IT" sz="1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1400" spc="-1" strike="noStrike">
              <a:solidFill>
                <a:srgbClr val="775f55"/>
              </a:solidFill>
              <a:latin typeface="Lucida Sans Unicode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227640" y="5516640"/>
            <a:ext cx="2592360" cy="812880"/>
          </a:xfrm>
          <a:prstGeom prst="rect">
            <a:avLst/>
          </a:prstGeom>
          <a:ln w="0">
            <a:noFill/>
          </a:ln>
        </p:spPr>
      </p:pic>
      <p:sp>
        <p:nvSpPr>
          <p:cNvPr id="120" name="Rettangolo arrotondato 1"/>
          <p:cNvSpPr/>
          <p:nvPr/>
        </p:nvSpPr>
        <p:spPr>
          <a:xfrm>
            <a:off x="250920" y="5923080"/>
            <a:ext cx="5905440" cy="63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baseline="30000">
                <a:solidFill>
                  <a:srgbClr val="002060"/>
                </a:solidFill>
                <a:latin typeface="Calibri"/>
              </a:rPr>
              <a:t>1</a:t>
            </a: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it-IT" sz="1100" spc="-1" strike="noStrike">
                <a:solidFill>
                  <a:srgbClr val="002060"/>
                </a:solidFill>
                <a:latin typeface="Calibri"/>
              </a:rPr>
              <a:t>(OLMI F. [2000], Introduzione alla Tavola Rotonda “Competenze e nuclei fondanti: la grammatica dei nuovi curricoli”, Aps – Forum delle associazioni disciplinari della scuola (seconda giornata di studio, Bologna 6 maggio 2000), “Annali della Pubblica Istruzione”, 1-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4520" y="1197000"/>
          <a:ext cx="8460000" cy="3925800"/>
        </p:xfrm>
        <a:graphic>
          <a:graphicData uri="http://schemas.openxmlformats.org/drawingml/2006/table">
            <a:tbl>
              <a:tblPr/>
              <a:tblGrid>
                <a:gridCol w="2359080"/>
                <a:gridCol w="1585800"/>
                <a:gridCol w="2090880"/>
                <a:gridCol w="1522440"/>
                <a:gridCol w="901800"/>
              </a:tblGrid>
              <a:tr h="42084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ilo dell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etenz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ilit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oscenz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i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ificativ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04960">
                <a:tc>
                  <a:txBody>
                    <a:bodyPr lIns="58320" rIns="583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 una padronanza della lingua italiana tale da consentirgli di comprendere testi di varia tipologia, di esprimere le proprie idee e le informazioni acquisite, con un linguaggio appropriato alle  diverse situazion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marL="162000" indent="-162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-PRIM-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62000" indent="-162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coltare e comprendere messaggi e/o testi di vario gene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62000" indent="-162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orre in modo comprensibile a chi ascolta esperienze personali , testi letti o ascoltat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62000" indent="-162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costruire verbalmente le fasi di un'esperienza vissuta a scuola o in altri contest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62000" indent="-162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62000" indent="-162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ANZ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ali strutture della lingua italian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ico fondamentale per la gestione di semplici comunicazioni oral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ico fondamentale per la gestione di semplici comunicazioni orali e scritte in diversi contesti conosciut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ali connettivi logic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i e strutture essenziali di organizzazione del discorso descrittivo, narrativo, espositiv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ico specifico per la gestione di comunicazioni orali e scritte in contesti formali e informal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7840" indent="-177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ANZ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costruire verbalmente le fasi di un gioco, di un’esperienza o di un testo ascoltato anche con l’uso di immagin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blicizzare materiale informativo, libri, e.book, ecc. argomentando con tesi conformi allo scop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2" name="Ovale 7"/>
          <p:cNvSpPr/>
          <p:nvPr/>
        </p:nvSpPr>
        <p:spPr>
          <a:xfrm>
            <a:off x="7391520" y="1773360"/>
            <a:ext cx="172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060"/>
                </a:solidFill>
                <a:latin typeface="Calibri"/>
              </a:rPr>
              <a:t>Riferimento alla certificazione competenz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ttangolo arrotondato 8"/>
          <p:cNvSpPr/>
          <p:nvPr/>
        </p:nvSpPr>
        <p:spPr>
          <a:xfrm>
            <a:off x="108000" y="4005360"/>
            <a:ext cx="3816360" cy="1655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63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Calibri"/>
              </a:rPr>
              <a:t>Necessario ripensare il modo di “fare scuola”, integrando la didattica riferita ai nuclei fondanti delle discipline con modalità interattive e costruttive di apprendimento. Fondando il proprio insegnamento su esperienze significative si permette di «imparare facendo»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tangolo arrotondato 11"/>
          <p:cNvSpPr/>
          <p:nvPr/>
        </p:nvSpPr>
        <p:spPr>
          <a:xfrm>
            <a:off x="6156360" y="3860640"/>
            <a:ext cx="2484360" cy="648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63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Calibri"/>
              </a:rPr>
              <a:t>COMPITI AUTENTIC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2060"/>
                </a:solidFill>
                <a:latin typeface="Calibri"/>
              </a:rPr>
              <a:t>AUTOBIOGRAFIE NARRATIV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227640" y="5516640"/>
            <a:ext cx="259236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66680" y="692280"/>
          <a:ext cx="8964720" cy="2225520"/>
        </p:xfrm>
        <a:graphic>
          <a:graphicData uri="http://schemas.openxmlformats.org/drawingml/2006/table">
            <a:tbl>
              <a:tblPr/>
              <a:tblGrid>
                <a:gridCol w="5470560"/>
                <a:gridCol w="34941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TI DEBO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TI DI FOR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ico comples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lo nazion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ze elev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rontabile tra diversi ordi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e 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udizio con 4 livel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icoltà nel certificare competenze nell’extrascolas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rsale alle discipl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cessivo riferimento alle 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voro di gruppo (team/consigl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7" name="CasellaDiTesto 2"/>
          <p:cNvSpPr/>
          <p:nvPr/>
        </p:nvSpPr>
        <p:spPr>
          <a:xfrm>
            <a:off x="2370240" y="3068640"/>
            <a:ext cx="51861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  <a:ea typeface="Arial"/>
              </a:rPr>
              <a:t>PROPOSTE OPERATIVE PER LA COMPILAZI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semplificazione linguis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revisione di traguardi troppo al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Arial"/>
              </a:rPr>
              <a:t>accorpamento dei profili dell’area sociale-civ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ttangolo arrotondato 2"/>
          <p:cNvSpPr/>
          <p:nvPr/>
        </p:nvSpPr>
        <p:spPr>
          <a:xfrm>
            <a:off x="349200" y="4797360"/>
            <a:ext cx="5041800" cy="1917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ALCUNE REAZIONI DELLE FAMIGL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«di più ampio respiro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«giudizio più esaustivo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«perché non riceverlo anno per anno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Apprezzata la TRASVERSALITA’ E VERTICALITA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sellaDiTesto 3"/>
          <p:cNvSpPr/>
          <p:nvPr/>
        </p:nvSpPr>
        <p:spPr>
          <a:xfrm>
            <a:off x="1922400" y="127080"/>
            <a:ext cx="60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  <a:ea typeface="Arial"/>
              </a:rPr>
              <a:t>IL MODELL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26920" y="2491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100" spc="-1" strike="noStrike">
              <a:solidFill>
                <a:srgbClr val="775f55"/>
              </a:solidFill>
              <a:latin typeface="Lucida Sans Unicode"/>
              <a:ea typeface="Mang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3456000" cy="93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468360" y="5661000"/>
            <a:ext cx="194292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zzati Anna</dc:creator>
  <dc:description/>
  <dc:language>en-US</dc:language>
  <cp:lastModifiedBy>arianna</cp:lastModifiedBy>
  <dcterms:modified xsi:type="dcterms:W3CDTF">2016-05-02T19:42:15Z</dcterms:modified>
  <cp:revision>50</cp:revision>
  <dc:subject/>
  <dc:title>Linee di indirizzo per favorire il diritto allo studio degli alunni adottati</dc:title>
</cp:coreProperties>
</file>