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BBB0-5D94-4F74-A38F-310A05F6B0F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UR – Roma – 7 novembre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4222-15AD-4F52-BF79-6297FAC4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C569-ACA3-4C02-AD27-3D851FA7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265C-83B7-445D-9D08-5714CFB08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E2B6-E126-4DE0-BD30-233F9505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C394-9328-48D5-ADE7-2A59A4D1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B545-CD2F-4B8B-B8FF-0BDD6F41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4046-B103-44A5-AA4C-165ABA8C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B941-5147-4CC9-88C7-E8EC0CB7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DBEA-67EC-426A-8610-DD7EF4B7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661A-4D8B-4A96-8128-7EAF1E49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287F-1E51-4064-82C2-61EB168A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FB59-98BA-4309-911E-69E1DEB1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8E39-8B37-4228-B1B4-A9C41EA6CEA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tica nel primo cic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38862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 Olimpiadi di Problem Solving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ché, cosa, come, chi, qu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DDA8-F307-413A-B61D-2C7D5E6540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Olimpiadi di Problem Solving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ab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appresentazione strutturata dell’inform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errogazione di tab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perazioni tra insie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oblemi primi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8688-73B9-4816-99A0-72FB7079C7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Olimpiadi di Problem Solving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lbe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lazioni (non solo di parentel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mostrazioni e giustific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composizione di problemi in sottoproble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struzione e descrizione di procedim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FC92-5E59-4249-8612-0DC9F9E1F9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Olimpiadi di Problem Solving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Graf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rcorsi, procedimenti e argoment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rganizzazione e descrizione di attiv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ssegnazione e utilizzo di ris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anificazione e ottimizz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DC51-EEDD-4046-9173-D46ECFE3DC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Olimpiadi di Problem Solving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zzare l’accessibilità via Internet per mettere a disposizione un sito p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istribuire materiale didattico per orientare, sostenere e stimolare la formazion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onsentire sperimentazioni di problem solv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gestire le prove ufficiali delle Olimpiad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FC7D-2AEB-4317-A7CB-59CAE3E257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Olimpiadi di Problem Solving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la scuola deve essere presente u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oratorio con computer collegati a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alunni devono potersi collegare al “sito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dicato a questa inizia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l “sito” potrà essere ospitato anche materi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dattico preparato dai singoli docenti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35E0-F2EE-41AB-81EC-78E1DAB87D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Olimpiadi di Problem Solving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ante l’anno scolastico sarà possibile partecip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erifiche in itinere e a sessioni di allena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presentazione della prova, la raccolta del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poste e la relativa valutazione saranno svolte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o automatico da un program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7FD0-FB20-40C3-95F8-50AEFB29FD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Olimpiadi di Problem Solving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tti gli interessati, in particol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in ogni scuola è auspicabile la presenza di un docente di riferiment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a prospettiva è di coinvolgere docenti e  applicazioni in ogni discipl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1149-7C8D-42AF-B5DA-3CE9D0178A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Olimpiadi di Problem Solving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utti gli student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he desiderano partecip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tranno far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utti i docent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he desiderano contribuire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parare i materiali di supporto potran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r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È auspicabile che tutti i docenti si sentano partecipi e autori di questo event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5143-F1DA-4378-9690-45374847CB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Olimpiadi di Problem Solving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an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ata la pervasività dell’Informatica è auspicabi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entury Gothic"/>
              </a:rPr>
              <a:t>riservare parte del tempo settimanale per lo studio di “</a:t>
            </a:r>
            <a:r>
              <a:rPr b="1" i="1" lang="it-IT" sz="3200" spc="-1" strike="noStrike">
                <a:solidFill>
                  <a:srgbClr val="000000"/>
                </a:solidFill>
                <a:latin typeface="Century Gothic"/>
              </a:rPr>
              <a:t>Elementi di Informatica</a:t>
            </a:r>
            <a:r>
              <a:rPr b="1" lang="it-IT" sz="3200" spc="-1" strike="noStrike">
                <a:solidFill>
                  <a:srgbClr val="000000"/>
                </a:solidFill>
                <a:latin typeface="Century Gothic"/>
              </a:rPr>
              <a:t>”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entury Gothic"/>
              </a:rPr>
              <a:t>partecipare sistematicamente agli eventi programmati central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A46C-CEEC-46CA-AF7C-6E33674247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Olimpiadi di Problem Solving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an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simi appuntamenti per il 200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na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perimentazione del sistema (su numero ristretto di scuole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ebbra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due prove sperimentali di allenamento offerte a tutte le scuo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rzo/apr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va per la selezione delle squadre da ammettere alla fase naziona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rile/magg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volgimento della prova naziona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58DC-F930-48C6-ACEF-644387C488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Olimpiadi di Problem Solving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ch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lla scuola italiana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 percezi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lla  Informatica non è adeguata; migliorandola si possono ottenere due risultat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ar conoscere l’Informatica come disciplina scientific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rendere più ricco (per gli studenti) l’insieme di conoscenze e competenze per il problem solv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0876-6CA8-44CB-BB6D-65E4EE5CB4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Olimpiadi di Problem Solv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025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l computer è più rivoluzionario come idea che 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sieme di servizi (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ruolo del saper far fare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it-IT" sz="2800" spc="-1" strike="noStrike">
                <a:solidFill>
                  <a:srgbClr val="000000"/>
                </a:solidFill>
                <a:latin typeface="Comic Sans MS"/>
              </a:rPr>
              <a:t>A mio giudizio, si capisce qualcosa solo 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omic Sans MS"/>
              </a:rPr>
              <a:t>si è capaci – noi e non altri! – di scrivere 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omic Sans MS"/>
              </a:rPr>
              <a:t>program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omic Sans MS"/>
              </a:rPr>
              <a:t>Altrimenti non si ha una vera comprension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1" i="1" lang="it-IT" sz="2800" spc="-1" strike="noStrike">
                <a:solidFill>
                  <a:srgbClr val="000000"/>
                </a:solidFill>
                <a:latin typeface="Comic Sans MS"/>
              </a:rPr>
              <a:t>crede</a:t>
            </a:r>
            <a:r>
              <a:rPr b="1" i="1" lang="it-IT" sz="2800" spc="-1" strike="noStrike">
                <a:solidFill>
                  <a:srgbClr val="000000"/>
                </a:solidFill>
                <a:latin typeface="Comic Sans MS"/>
              </a:rPr>
              <a:t> soltanto di capire.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(Gregory Chaitin. Alla ricerca di omega, Adelphi, 200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E36E-D863-49DE-BE3A-3FEBB33E53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384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Olimpiadi di Problem Solv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it-IT" sz="3600" spc="-1" strike="noStrike" u="sng">
                <a:solidFill>
                  <a:srgbClr val="000000"/>
                </a:solidFill>
                <a:uFillTx/>
                <a:latin typeface="Times New Roman"/>
              </a:rPr>
              <a:t>Quo facto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quando orientur controversiae, non mag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disputatione opus erit inter duos philosophos, qu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inter duos computistas. Sufficiet enim calamos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manus sumere sedereque ad abbacos et sibi mutu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(accito si placet amico) dicer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3600" spc="-1" strike="noStrike" u="sng">
                <a:solidFill>
                  <a:srgbClr val="000000"/>
                </a:solidFill>
                <a:uFillTx/>
                <a:latin typeface="Times New Roman"/>
              </a:rPr>
              <a:t>calculemus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eibniz: De scientia universalis seu calculo philosoph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719F-4BFD-4D3F-9797-4170454970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 Olimpiadi di Problem Solv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200" spc="-1" strike="noStrike">
                <a:solidFill>
                  <a:srgbClr val="000000"/>
                </a:solidFill>
                <a:latin typeface="Comic Sans MS"/>
              </a:rPr>
              <a:t>Buon lavoro</a:t>
            </a: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F102-61E2-4273-A467-97D8E1F4A8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Olimpiadi di Problem Solving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ch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preparazi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gli studenti per questo evento 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asione e stimolo per presentare, discutere e f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pprende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ioca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 in modo organico) i princip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 metodologi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serviz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nessi a questa discipl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’Informatica non è (solo) TIC (o elettrodomestici),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e risulta evidente osservandone la sto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42B8-35D0-4BDF-AD30-9D8D3A1BDA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Olimpiadi di Problem Solving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ch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Informatica non nasce (con il computer) nel decennio 1940 – 1950, per offrire serviz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 emerge (dopo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a storia durata migliaia di ann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come risposta a esigenze di carattere etico, sociale, filosofico, giuridico, economico e (anche) logico matema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Informatica va quindi percepita c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todo concettua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formalizzare e risolvere problemi in ogni camp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CE52-F457-4ECC-A868-C1A80DE9F9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Olimpiadi di Problem Solving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ch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’Informatica come disciplina autonoma nasce dalla confluenza di due filoni di attività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l primo è condiviso con filosofi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matematica e logic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l secondo è nell’ambito della fisica e dell’ingegne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sintesi avviene con la messa a punto d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strumenti concettual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i linguaggi di programmazio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metodi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gli algoritmi e la programmazione)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manufatti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il “computer universale” e il “software”)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) Del diritto, del linguaggio, della conoscenza, di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BE22-D386-4C11-B688-6C8DBAEE5A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Olimpiadi di Problem Solving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ch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e pietre miliari dell’evoluzione dell’Informatica sono riassumibili 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quattro aggettivi: </a:t>
            </a: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digitale, effettivo, automatico, intellig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appresentazione e memorizzazione </a:t>
            </a: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digitale</a:t>
            </a: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ell’informazione, (30000-1000 a.C. 1500 d.C. – ogg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</a:t>
            </a:r>
            <a:r>
              <a:rPr b="0" lang="it-IT" sz="800" spc="-1" strike="noStrike">
                <a:solidFill>
                  <a:srgbClr val="000000"/>
                </a:solidFill>
                <a:latin typeface="Times New Roman"/>
              </a:rPr>
              <a:t>A partire dall’alfabeto per le parole e dalle cifre per i numeri: Ebla, Hammurabi, Iliade, Odissea, Gutenbe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efinizione di regole esplicite per la </a:t>
            </a: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elaborazione effettiva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ell’informazione (</a:t>
            </a: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digitale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), (VI secolo a.C.-1936-ogg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</a:t>
            </a:r>
            <a:r>
              <a:rPr b="0" lang="it-IT" sz="800" spc="-1" strike="noStrike">
                <a:solidFill>
                  <a:srgbClr val="000000"/>
                </a:solidFill>
                <a:latin typeface="Times New Roman"/>
              </a:rPr>
              <a:t>Retorica, dialettica e logica: da Aristotele e Crisippo a Leibniz, Boole, Frege, Hilbert, Goedel e Tu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rogettazione e costruzione di sistemi (</a:t>
            </a: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computer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) capaci di elaborare l’informazione (</a:t>
            </a: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digitale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) in modo </a:t>
            </a: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(effettivo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automatico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, (1822-1945-ogg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</a:t>
            </a:r>
            <a:r>
              <a:rPr b="0" lang="it-IT" sz="800" spc="-1" strike="noStrike">
                <a:solidFill>
                  <a:srgbClr val="000000"/>
                </a:solidFill>
                <a:latin typeface="Times New Roman"/>
              </a:rPr>
              <a:t>Dagli automi meccanici al computer: Ctesibio, Leonardo, Jacquard, Babbage, Zuse e Von Neuman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omunicazione </a:t>
            </a: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intelligente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tra interlocutori umani e automatici. (1952 - ogg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Dalla automazione del lavoro d’ufficio alle applicazioni della Intelligenza Artificia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E244-AD0A-4821-AFEC-9582BAB6D1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Olimpiadi di Problem Solving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ch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n obiettiv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dalla conoscenza alla compete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ape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conoscere l’interlocutore autom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aper fa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conoscerne le modalità di utilizz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n metodo per raggiunger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aper far fa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capire le sue potenzialità e i suoi limiti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calcolabilità, trattabilità, problem-solving e programmazi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22EE-552B-422B-A25F-DF00B77838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Olimpiadi di Problem Solving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es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 metodologie e le tecniche di programmazi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no una bas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ffetti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per costrui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etenze generali di problem solv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nd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strazione, formalizzazione e strutture dat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composizione di problemi in sottoprobl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E00E-66F9-4768-B8BB-D58395B8C5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Olimpiadi di Problem Solving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 attività proposte hanno come obiettivo la costruzione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petenze (effettive e misurabili) 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prendere e formalizzare problem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coprire e descrivere procedimenti di soluzione (applicabili aicasi in oggett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Far eseguire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” un procedimento e </a:t>
            </a: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valutare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il risult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orgio Casadei - Università di Bologna - casadei@cs.unibo.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1362-F462-4798-A8E6-9448D3EB56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3:46:04Z</dcterms:created>
  <dc:creator>cs unibo</dc:creator>
  <dc:description/>
  <dc:language>en-US</dc:language>
  <cp:lastModifiedBy>Daniela Succi</cp:lastModifiedBy>
  <dcterms:modified xsi:type="dcterms:W3CDTF">2008-11-29T17:44:11Z</dcterms:modified>
  <cp:revision>59</cp:revision>
  <dc:subject/>
  <dc:title>Informatica nel primo ciclo</dc:title>
</cp:coreProperties>
</file>