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552-4818-4596-A444-BE154412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40E-E2BD-4B50-9B3C-2F0666B6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7C03-E3FF-4385-95DD-20312F62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B879-6CDB-44F7-9F15-06BE493A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48F1-3C05-4BFE-8108-42DF22CB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3B3-28D6-4002-89A3-9A2E8664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323-7DB7-49A3-B67E-F715E503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FE9-A994-4D17-AD0D-E7758203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41C-7967-4978-8196-2EA4703C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8A7-0B2A-49B1-87B0-A2DC77F2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51EE-FA6D-4419-B376-4E921692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493-7A47-4136-9BCF-835672FF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36DD-5E1F-4F55-8495-623C5183598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isfol.it/index.htm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isfol.it/index.htm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8920" y="28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8920" y="28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3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33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6168960"/>
            <a:ext cx="706320" cy="636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736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70320" y="6165720"/>
            <a:ext cx="836640" cy="639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596360" y="6240600"/>
            <a:ext cx="820440" cy="406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990720"/>
            <a:ext cx="914400" cy="5029200"/>
          </a:xfrm>
          <a:prstGeom prst="rect">
            <a:avLst/>
          </a:prstGeom>
          <a:solidFill>
            <a:srgbClr val="00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762120"/>
            <a:ext cx="91440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054840"/>
            <a:ext cx="9144000" cy="7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705720" y="6629400"/>
            <a:ext cx="25146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Area </a:t>
            </a:r>
            <a:r>
              <a:rPr b="1" lang="it-IT" sz="900" spc="-1" strike="noStrike">
                <a:solidFill>
                  <a:srgbClr val="080462"/>
                </a:solidFill>
                <a:latin typeface="Tahoma"/>
              </a:rPr>
              <a:t>Metodologie</a:t>
            </a: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 per la Formazi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172200"/>
            <a:ext cx="914400" cy="685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62160" y="1668600"/>
            <a:ext cx="533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80462"/>
                </a:solidFill>
                <a:latin typeface="Tahoma"/>
              </a:rPr>
              <a:t>Il portafoglio Europ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2881440"/>
            <a:ext cx="4572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80462"/>
                </a:solidFill>
                <a:latin typeface="Tahoma"/>
              </a:rPr>
              <a:t>Uno strumento u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80462"/>
                </a:solidFill>
                <a:latin typeface="Tahoma"/>
              </a:rPr>
              <a:t>per mettere in traspar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80462"/>
                </a:solidFill>
                <a:latin typeface="Tahoma"/>
              </a:rPr>
              <a:t>le qualifiche e le competen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80462"/>
                </a:solidFill>
                <a:latin typeface="Tahoma"/>
              </a:rPr>
              <a:t>acquisite nell’arco della v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258920" y="0"/>
            <a:ext cx="17287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1219320"/>
            <a:ext cx="91440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333399"/>
                </a:solidFill>
                <a:uFillTx/>
                <a:latin typeface="Tahoma"/>
              </a:rPr>
              <a:t>Trasparenza delle competenze</a:t>
            </a: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Portfolio europeo delle lingue – 1998 </a:t>
            </a:r>
            <a:br>
              <a:rPr sz="2800"/>
            </a:b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1" lang="fr-FR" sz="2400" spc="-1" strike="noStrike">
                <a:solidFill>
                  <a:srgbClr val="333399"/>
                </a:solidFill>
                <a:latin typeface="Tahoma"/>
              </a:rPr>
              <a:t>Consiglio d’Europa</a:t>
            </a: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CV europeo – 200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1" lang="fr-FR" sz="2400" spc="-1" strike="noStrike">
                <a:solidFill>
                  <a:srgbClr val="333399"/>
                </a:solidFill>
                <a:latin typeface="Tahoma"/>
              </a:rPr>
              <a:t>Commi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333399"/>
                </a:solidFill>
                <a:uFillTx/>
                <a:latin typeface="Tahoma"/>
              </a:rPr>
              <a:t>Valorizzazione della mobilità</a:t>
            </a: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Tahoma"/>
              </a:rPr>
              <a:t>-      </a:t>
            </a: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Europass - Formazione, 2000-2005</a:t>
            </a:r>
            <a:br>
              <a:rPr sz="2800"/>
            </a:b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1" lang="fr-FR" sz="2400" spc="-1" strike="noStrike">
                <a:solidFill>
                  <a:srgbClr val="333399"/>
                </a:solidFill>
                <a:latin typeface="Tahoma"/>
              </a:rPr>
              <a:t>Decisione del Consig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17287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32000" y="3500280"/>
            <a:ext cx="576108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920" y="28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920" y="28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33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19320" y="6168960"/>
            <a:ext cx="706320" cy="636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736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270320" y="6165720"/>
            <a:ext cx="836640" cy="639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240600"/>
            <a:ext cx="820440" cy="406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990720"/>
            <a:ext cx="914400" cy="5029200"/>
          </a:xfrm>
          <a:prstGeom prst="rect">
            <a:avLst/>
          </a:prstGeom>
          <a:solidFill>
            <a:srgbClr val="00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62120"/>
            <a:ext cx="91440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054840"/>
            <a:ext cx="9144000" cy="7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705720" y="6629400"/>
            <a:ext cx="25146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Area </a:t>
            </a:r>
            <a:r>
              <a:rPr b="1" lang="it-IT" sz="900" spc="-1" strike="noStrike">
                <a:solidFill>
                  <a:srgbClr val="080462"/>
                </a:solidFill>
                <a:latin typeface="Tahoma"/>
              </a:rPr>
              <a:t>Metodologie</a:t>
            </a: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 per la Formazi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172200"/>
            <a:ext cx="914400" cy="685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9907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80462"/>
                </a:solidFill>
                <a:latin typeface="Tahoma"/>
              </a:rPr>
              <a:t>Uno strumento unico per la traspar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80462"/>
                </a:solidFill>
                <a:latin typeface="Tahoma"/>
              </a:rPr>
              <a:t>delle qualifiche e delle competen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127240"/>
            <a:ext cx="78264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80462"/>
                </a:solidFill>
                <a:latin typeface="Tahoma"/>
              </a:rPr>
              <a:t>Il 17 dicembre 2003 la Commissione europea ha adottato la proposta di Decisione sullo strumento unico per la trasparenza delle qualifiche e delle competenze – COM (2003) 79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80462"/>
                </a:solidFill>
                <a:latin typeface="Tahoma"/>
              </a:rPr>
              <a:t>Il 15 dicembre 2004 la proposta è stata adott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80462"/>
                </a:solidFill>
                <a:latin typeface="Tahoma"/>
              </a:rPr>
              <a:t>Entro marzo 2005 la decisione sarà operativa e gli Stati membri potranno avviare la sperimentazione del Portafoglio Europ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900000" y="0"/>
            <a:ext cx="17290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</a:rPr>
              <a:t>La decisione Europ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</a:rPr>
              <a:t>Decisione 2241/2004/EC </a:t>
            </a:r>
            <a:br>
              <a:rPr sz="2800"/>
            </a:br>
            <a:r>
              <a:rPr b="1" lang="en-GB" sz="2800" spc="-1" strike="noStrike">
                <a:solidFill>
                  <a:srgbClr val="333399"/>
                </a:solidFill>
                <a:latin typeface="Tahoma"/>
              </a:rPr>
              <a:t>del Parlamento europeo e del Consiglio, 15 Dicembre 2004 </a:t>
            </a:r>
            <a:br>
              <a:rPr sz="2800"/>
            </a:br>
            <a:r>
              <a:rPr b="1" lang="en-GB" sz="2800" spc="-1" strike="noStrike">
                <a:solidFill>
                  <a:srgbClr val="333399"/>
                </a:solidFill>
                <a:latin typeface="Tahoma"/>
              </a:rPr>
              <a:t>su un quadro unico comunitario per la trasparenza delle qualificazioni e delle competenze (Europ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GUCE L 390 del 31.12.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762120"/>
            <a:ext cx="91440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00000" y="0"/>
            <a:ext cx="17290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</a:rPr>
              <a:t>La decisione Europ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</a:rPr>
              <a:t>E’ finalizzata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</a:rPr>
              <a:t>Aiutare I cittadini a rendere più comprensibili e leggibili le proprie qualificazioni e competenze per cercare un lavoro o per inserirsi in un percorso di apprendi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Quindi, facilitare la mobilità dei cittadini a 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scopo occupazionale o di apprend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762120"/>
            <a:ext cx="91440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900000" y="0"/>
            <a:ext cx="17290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</a:rPr>
              <a:t>La decisione Europ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48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</a:rPr>
              <a:t>Stabilisce un quadro unico per la trasparenza sotto forma di portafoglio coordinato, chiamato Europa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Affida ad un unico organismo la responsabilità, in ogni Stato membro, di tutte le attività correlate -  National Europass Cen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762120"/>
            <a:ext cx="91440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00000" y="0"/>
            <a:ext cx="17290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1471320"/>
            <a:ext cx="777564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</a:rPr>
              <a:t>Contenuti</a:t>
            </a:r>
            <a:br>
              <a:rPr sz="3600"/>
            </a:br>
            <a:r>
              <a:rPr b="1" lang="en-GB" sz="2800" spc="-1" strike="noStrike">
                <a:solidFill>
                  <a:srgbClr val="333399"/>
                </a:solidFill>
                <a:latin typeface="Tahoma"/>
              </a:rPr>
              <a:t>Europass parte dai cinque documenti esistenti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6920" y="3130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</a:rPr>
              <a:t>Riguardano le qualificazioni e le competenze in un’ottica di </a:t>
            </a: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apprendimento lungo tutto l’arco della vita</a:t>
            </a:r>
            <a:r>
              <a:rPr b="1" lang="en-GB" sz="2800" spc="-1" strike="noStrike">
                <a:solidFill>
                  <a:srgbClr val="333399"/>
                </a:solidFill>
                <a:latin typeface="Tahoma"/>
              </a:rPr>
              <a:t> (lifelong learning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</a:rPr>
              <a:t>Migliorano la trasparenza mediante un approccio basato sulle </a:t>
            </a:r>
            <a:r>
              <a:rPr b="1" lang="en-GB" sz="2800" spc="-1" strike="noStrike" u="sng">
                <a:solidFill>
                  <a:srgbClr val="000099"/>
                </a:solidFill>
                <a:uFillTx/>
                <a:latin typeface="Tahoma"/>
              </a:rPr>
              <a:t>competenze</a:t>
            </a: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</a:rPr>
              <a:t>Sono stati definiti a </a:t>
            </a: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livello europeo</a:t>
            </a:r>
            <a:r>
              <a:rPr b="1" lang="en-GB" sz="28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762120"/>
            <a:ext cx="91440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900000" y="0"/>
            <a:ext cx="17290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16000" y="1341360"/>
            <a:ext cx="1295280" cy="43927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56000" y="2873520"/>
            <a:ext cx="4595760" cy="763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80462"/>
                </a:solidFill>
                <a:latin typeface="Tahoma"/>
              </a:rPr>
              <a:t>Libretto individuale che conferisce trasparenza e visibilità ai periodi di formazione e di apprendistato all’estero</a:t>
            </a:r>
            <a:r>
              <a:rPr b="0" lang="it-IT" sz="1400" spc="-1" strike="noStrike">
                <a:solidFill>
                  <a:srgbClr val="080462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80462"/>
                </a:solidFill>
                <a:latin typeface="Wingdings"/>
                <a:ea typeface="Wingdings"/>
              </a:rPr>
              <a:t></a:t>
            </a:r>
            <a:r>
              <a:rPr b="0" lang="it-IT" sz="1400" spc="-1" strike="noStrike">
                <a:solidFill>
                  <a:srgbClr val="080462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e31611"/>
                </a:solidFill>
                <a:latin typeface="Tahoma"/>
              </a:rPr>
              <a:t>Europass Mo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125360"/>
            <a:ext cx="914400" cy="5029200"/>
          </a:xfrm>
          <a:prstGeom prst="rect">
            <a:avLst/>
          </a:prstGeom>
          <a:solidFill>
            <a:srgbClr val="00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03440" y="4872240"/>
            <a:ext cx="1828800" cy="7333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08120" y="2275200"/>
            <a:ext cx="1752840" cy="73332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27200" y="4003920"/>
            <a:ext cx="1828800" cy="7333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2240" y="3140280"/>
            <a:ext cx="1752480" cy="73332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8920" y="28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19320" y="6168960"/>
            <a:ext cx="706320" cy="6364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270320" y="6165720"/>
            <a:ext cx="836640" cy="639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240600"/>
            <a:ext cx="820440" cy="406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9144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ahoma"/>
              </a:rPr>
              <a:t>Il portafoglio Europ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762120"/>
            <a:ext cx="91440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6054840"/>
            <a:ext cx="9144000" cy="7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05720" y="6629400"/>
            <a:ext cx="25146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Area </a:t>
            </a:r>
            <a:r>
              <a:rPr b="1" lang="it-IT" sz="900" spc="-1" strike="noStrike">
                <a:solidFill>
                  <a:srgbClr val="080462"/>
                </a:solidFill>
                <a:latin typeface="Tahoma"/>
              </a:rPr>
              <a:t>Metodologie</a:t>
            </a: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 per la Formazi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172200"/>
            <a:ext cx="914400" cy="685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75000" y="4137120"/>
            <a:ext cx="187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80462"/>
                </a:solidFill>
                <a:latin typeface="Tahoma"/>
              </a:rPr>
              <a:t>SUPPLEM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80462"/>
                </a:solidFill>
                <a:latin typeface="Tahoma"/>
              </a:rPr>
              <a:t>AL CERTIFIC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81200" y="3216600"/>
            <a:ext cx="116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80462"/>
                </a:solidFill>
                <a:latin typeface="Tahoma"/>
              </a:rPr>
              <a:t>EUROPASS</a:t>
            </a:r>
            <a:r>
              <a:rPr b="1" lang="it-IT" sz="1400" spc="-1" strike="noStrike">
                <a:solidFill>
                  <a:srgbClr val="080462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80462"/>
                </a:solidFill>
                <a:latin typeface="Tahoma"/>
              </a:rPr>
              <a:t>MO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33320" y="2406960"/>
            <a:ext cx="154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80462"/>
                </a:solidFill>
                <a:latin typeface="Tahoma"/>
              </a:rPr>
              <a:t>SUPPLEMENTO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80462"/>
                </a:solidFill>
                <a:latin typeface="Tahoma"/>
              </a:rPr>
              <a:t>AL DIPLO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28280" y="4867560"/>
            <a:ext cx="144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80462"/>
                </a:solidFill>
                <a:latin typeface="Tahoma"/>
              </a:rPr>
              <a:t>PASSAPO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80462"/>
                </a:solidFill>
                <a:latin typeface="Tahoma"/>
              </a:rPr>
              <a:t>EUROP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80462"/>
                </a:solidFill>
                <a:latin typeface="Tahoma"/>
              </a:rPr>
              <a:t>DELLE LIN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3745080"/>
            <a:ext cx="4608720" cy="1189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80462"/>
                </a:solidFill>
                <a:latin typeface="Tahoma"/>
              </a:rPr>
              <a:t>Certificato che accompagna l’attestato di qualifica nazionale e fornisce informazioni riguardo il contenuto del percorso formativo, il livello della qualifica e le competenze acquisite</a:t>
            </a:r>
            <a:r>
              <a:rPr b="0" lang="it-IT" sz="1400" spc="-1" strike="noStrike">
                <a:solidFill>
                  <a:srgbClr val="080462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80462"/>
                </a:solidFill>
                <a:latin typeface="Wingdings"/>
                <a:ea typeface="Wingdings"/>
              </a:rPr>
              <a:t></a:t>
            </a:r>
            <a:r>
              <a:rPr b="0" lang="it-IT" sz="1400" spc="-1" strike="noStrike">
                <a:solidFill>
                  <a:srgbClr val="080462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e31611"/>
                </a:solidFill>
                <a:latin typeface="Tahoma"/>
              </a:rPr>
              <a:t>Europass 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2009880"/>
            <a:ext cx="4559400" cy="763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80462"/>
                </a:solidFill>
                <a:latin typeface="Tahoma"/>
              </a:rPr>
              <a:t>Certificazione integrativa del titolo ufficiale conseguito al termine di un corso di studi di tipo accademico </a:t>
            </a:r>
            <a:r>
              <a:rPr b="0" lang="it-IT" sz="1400" spc="-1" strike="noStrike">
                <a:solidFill>
                  <a:srgbClr val="080462"/>
                </a:solidFill>
                <a:latin typeface="Wingdings"/>
                <a:ea typeface="Wingdings"/>
              </a:rPr>
              <a:t></a:t>
            </a:r>
            <a:r>
              <a:rPr b="0" lang="it-IT" sz="1400" spc="-1" strike="noStrike">
                <a:solidFill>
                  <a:srgbClr val="080462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e31611"/>
                </a:solidFill>
                <a:latin typeface="Tahoma"/>
              </a:rPr>
              <a:t>Europass 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5037120"/>
            <a:ext cx="4608720" cy="9766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80462"/>
                </a:solidFill>
                <a:latin typeface="Tahoma"/>
              </a:rPr>
              <a:t>Strumento che accompagna l’individuo nel proprio percorso di apprendimento delle lingue straniere lungo tutto l'arco della vita</a:t>
            </a:r>
            <a:r>
              <a:rPr b="0" lang="it-IT" sz="1400" spc="-1" strike="noStrike">
                <a:solidFill>
                  <a:srgbClr val="080462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80462"/>
                </a:solidFill>
                <a:latin typeface="Wingdings"/>
                <a:ea typeface="Wingdings"/>
              </a:rPr>
              <a:t></a:t>
            </a:r>
            <a:r>
              <a:rPr b="0" lang="it-IT" sz="1400" spc="-1" strike="noStrike">
                <a:solidFill>
                  <a:srgbClr val="080462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e31611"/>
                </a:solidFill>
                <a:latin typeface="Tahoma"/>
              </a:rPr>
              <a:t>Europass P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 rot="5400000">
            <a:off x="5040" y="3386880"/>
            <a:ext cx="3456000" cy="371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Tahoma"/>
              </a:rPr>
              <a:t>EUROPA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Tahoma"/>
              <a:ea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484360" y="1402200"/>
            <a:ext cx="1752840" cy="73332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1720" y="164052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80462"/>
                </a:solidFill>
                <a:latin typeface="Tahoma"/>
              </a:rPr>
              <a:t>CV EUROP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963720"/>
            <a:ext cx="4559400" cy="1220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80462"/>
                </a:solidFill>
                <a:latin typeface="Tahoma"/>
              </a:rPr>
              <a:t>Ha il compito di uniformare, in base ad una standardizzazione condivisa, la presentazione dei titoli di studio, delle esperienze lavorative e delle competenze individuali </a:t>
            </a:r>
            <a:r>
              <a:rPr b="0" lang="it-IT" sz="1600" spc="-1" strike="noStrike">
                <a:solidFill>
                  <a:srgbClr val="080462"/>
                </a:solidFill>
                <a:latin typeface="Wingdings"/>
                <a:ea typeface="Wingdings"/>
              </a:rPr>
              <a:t></a:t>
            </a:r>
            <a:r>
              <a:rPr b="0" lang="it-IT" sz="1600" spc="-1" strike="noStrike">
                <a:solidFill>
                  <a:srgbClr val="080462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e31611"/>
                </a:solidFill>
                <a:latin typeface="Tahoma"/>
              </a:rPr>
              <a:t>Europass 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900000" y="0"/>
            <a:ext cx="17290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144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ahoma"/>
              </a:rPr>
              <a:t>Il portafoglio Europ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762120"/>
            <a:ext cx="91440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1125360"/>
            <a:ext cx="914400" cy="5029200"/>
          </a:xfrm>
          <a:prstGeom prst="rect">
            <a:avLst/>
          </a:prstGeom>
          <a:solidFill>
            <a:srgbClr val="00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172200"/>
            <a:ext cx="914400" cy="685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434960" y="6165720"/>
            <a:ext cx="706680" cy="636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486320" y="6165720"/>
            <a:ext cx="836640" cy="639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7740720" y="6165720"/>
            <a:ext cx="820800" cy="406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6360" y="6091200"/>
            <a:ext cx="9144000" cy="7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6524640"/>
            <a:ext cx="25146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Area </a:t>
            </a:r>
            <a:r>
              <a:rPr b="1" lang="it-IT" sz="900" spc="-1" strike="noStrike">
                <a:solidFill>
                  <a:srgbClr val="080462"/>
                </a:solidFill>
                <a:latin typeface="Tahoma"/>
              </a:rPr>
              <a:t>Metodologie</a:t>
            </a: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 per la Formazi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6172200"/>
            <a:ext cx="936720" cy="685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84200" y="12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ahoma"/>
              </a:rPr>
              <a:t>Finalit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77708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ahoma"/>
              </a:rPr>
              <a:t>Comunicare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meglio le proprie qualifiche e competenze nel proprio Paese e all’es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ahoma"/>
              </a:rPr>
              <a:t>Razionalizzare 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 facilitare l’utilizzo degli strumenti per la traspar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ahoma"/>
              </a:rPr>
              <a:t>Migliorare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l’impatto comunicativo dei dispositivi attraverso un unico marchio</a:t>
            </a: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3780000" y="4581360"/>
            <a:ext cx="253980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990720"/>
            <a:ext cx="914400" cy="5029200"/>
          </a:xfrm>
          <a:prstGeom prst="rect">
            <a:avLst/>
          </a:prstGeom>
          <a:solidFill>
            <a:srgbClr val="00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8920" y="28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8920" y="28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33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3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219320" y="6168960"/>
            <a:ext cx="706320" cy="636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270320" y="6165720"/>
            <a:ext cx="836640" cy="639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7596360" y="6240600"/>
            <a:ext cx="820440" cy="4064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9144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762120"/>
            <a:ext cx="91440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6054840"/>
            <a:ext cx="9144000" cy="7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705720" y="6629400"/>
            <a:ext cx="25146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Area </a:t>
            </a:r>
            <a:r>
              <a:rPr b="1" lang="it-IT" sz="900" spc="-1" strike="noStrike">
                <a:solidFill>
                  <a:srgbClr val="080462"/>
                </a:solidFill>
                <a:latin typeface="Tahoma"/>
              </a:rPr>
              <a:t>Metodologie</a:t>
            </a: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 per la Formazi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6172200"/>
            <a:ext cx="914400" cy="685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30480" y="903240"/>
            <a:ext cx="7696080" cy="7621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Tahoma"/>
              </a:rPr>
              <a:t>Caratteristi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3880" y="1814400"/>
            <a:ext cx="73692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80462"/>
                </a:solidFill>
                <a:latin typeface="Tahoma"/>
              </a:rPr>
              <a:t>Il portafoglio personale sarà costituito, in un primo momento, dai 5 dispositivi esistenti, ma se ne potranno aggiungere alt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80462"/>
                </a:solidFill>
                <a:latin typeface="Tahoma"/>
              </a:rPr>
              <a:t>Tutti i documenti compresi nel dispositivo saranno disponibili sia in formato cartaceo sia in formato elettro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80462"/>
                </a:solidFill>
                <a:latin typeface="Tahoma"/>
              </a:rPr>
              <a:t>Ogni documento Europass potrà essere utilizzato separat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46600" y="-27000"/>
            <a:ext cx="5262480" cy="64764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ahoma"/>
              </a:rPr>
              <a:t>Il portafoglio Europ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990720"/>
            <a:ext cx="914400" cy="5029200"/>
          </a:xfrm>
          <a:prstGeom prst="rect">
            <a:avLst/>
          </a:prstGeom>
          <a:solidFill>
            <a:srgbClr val="00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920" y="28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8920" y="28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33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33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219320" y="6168960"/>
            <a:ext cx="706320" cy="6364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270320" y="6165720"/>
            <a:ext cx="836640" cy="639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7596360" y="6240600"/>
            <a:ext cx="820440" cy="4064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9144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762120"/>
            <a:ext cx="91440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054840"/>
            <a:ext cx="9144000" cy="7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705720" y="6629400"/>
            <a:ext cx="25146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Area </a:t>
            </a:r>
            <a:r>
              <a:rPr b="1" lang="it-IT" sz="900" spc="-1" strike="noStrike">
                <a:solidFill>
                  <a:srgbClr val="080462"/>
                </a:solidFill>
                <a:latin typeface="Tahoma"/>
              </a:rPr>
              <a:t>Metodologie</a:t>
            </a: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 per la Formazi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6172200"/>
            <a:ext cx="914400" cy="685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30480" y="903240"/>
            <a:ext cx="7696080" cy="7621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Tahoma"/>
              </a:rPr>
              <a:t>Valore aggiu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3880" y="1814400"/>
            <a:ext cx="73692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Gestione più efficace attraverso il N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Migliore informazione e comunicazione tra cittadini, imprese e Istit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Maggior impatto potenziale dato da: un logo comune e da un rafforzamento reciproco dei docu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Un quadro di riferimento coerente per ulteriori sviluppi della traspar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46600" y="-27000"/>
            <a:ext cx="5262480" cy="64764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ahoma"/>
              </a:rPr>
              <a:t>Il portafoglio Europ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42920" y="1035000"/>
            <a:ext cx="7705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Tahoma"/>
              </a:rPr>
              <a:t>Il riconoscimento difficile e inc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Tahoma"/>
              </a:rPr>
              <a:t>delle qualifiche e dei diplo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Tahoma"/>
              </a:rPr>
              <a:t>limita la mobilità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Tahoma"/>
              </a:rPr>
              <a:t>Per il 45% delle persone che si dichiarano pronte a partire </a:t>
            </a:r>
            <a:r>
              <a:rPr b="1" lang="fr-BE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Tahoma"/>
              </a:rPr>
              <a:t>&lt; Sondaggio Ipsos, 2003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62120"/>
            <a:ext cx="91440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1728720" cy="628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990720"/>
            <a:ext cx="914400" cy="5029200"/>
          </a:xfrm>
          <a:prstGeom prst="rect">
            <a:avLst/>
          </a:prstGeom>
          <a:solidFill>
            <a:srgbClr val="00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172200"/>
            <a:ext cx="914400" cy="685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021360"/>
            <a:ext cx="9144000" cy="7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187280" y="6221520"/>
            <a:ext cx="706680" cy="636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667640" y="6165720"/>
            <a:ext cx="820800" cy="406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995640" y="6102360"/>
            <a:ext cx="8366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990720"/>
            <a:ext cx="914400" cy="5029200"/>
          </a:xfrm>
          <a:prstGeom prst="rect">
            <a:avLst/>
          </a:prstGeom>
          <a:solidFill>
            <a:srgbClr val="00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8920" y="28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8920" y="28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33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33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19320" y="6168960"/>
            <a:ext cx="706320" cy="6364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270320" y="6165720"/>
            <a:ext cx="836640" cy="6397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7596360" y="6240600"/>
            <a:ext cx="820440" cy="406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144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762120"/>
            <a:ext cx="91440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6054840"/>
            <a:ext cx="9144000" cy="7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705720" y="6629400"/>
            <a:ext cx="25146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Area </a:t>
            </a:r>
            <a:r>
              <a:rPr b="1" lang="it-IT" sz="900" spc="-1" strike="noStrike">
                <a:solidFill>
                  <a:srgbClr val="080462"/>
                </a:solidFill>
                <a:latin typeface="Tahoma"/>
              </a:rPr>
              <a:t>Metodologie</a:t>
            </a: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 per la Formazi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172200"/>
            <a:ext cx="914400" cy="685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30480" y="903240"/>
            <a:ext cx="7696080" cy="7621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Tahoma"/>
              </a:rPr>
              <a:t>Strumenti operativ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3880" y="1814400"/>
            <a:ext cx="73692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80462"/>
                </a:solidFill>
                <a:latin typeface="Tahoma"/>
              </a:rPr>
              <a:t>In ogni Stato membro un organismo </a:t>
            </a:r>
            <a:r>
              <a:rPr b="1" lang="it-IT" sz="2300" spc="-1" strike="noStrike">
                <a:solidFill>
                  <a:srgbClr val="080462"/>
                </a:solidFill>
                <a:latin typeface="Tahoma"/>
              </a:rPr>
              <a:t>(NEC)</a:t>
            </a:r>
            <a:r>
              <a:rPr b="0" lang="it-IT" sz="2300" spc="-1" strike="noStrike">
                <a:solidFill>
                  <a:srgbClr val="080462"/>
                </a:solidFill>
                <a:latin typeface="Tahoma"/>
              </a:rPr>
              <a:t> coordinerà le attività relative all’applicazione di Europas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80462"/>
                </a:solidFill>
                <a:latin typeface="Tahoma"/>
              </a:rPr>
              <a:t>Da febbraio 2005, un </a:t>
            </a:r>
            <a:r>
              <a:rPr b="1" lang="it-IT" sz="2300" spc="-1" strike="noStrike">
                <a:solidFill>
                  <a:srgbClr val="080462"/>
                </a:solidFill>
                <a:latin typeface="Tahoma"/>
              </a:rPr>
              <a:t>Portale europeo</a:t>
            </a:r>
            <a:r>
              <a:rPr b="0" lang="it-IT" sz="2300" spc="-1" strike="noStrike">
                <a:solidFill>
                  <a:srgbClr val="080462"/>
                </a:solidFill>
                <a:latin typeface="Tahoma"/>
              </a:rPr>
              <a:t> fornirà informazioni di carattere generale e consentirà di accedere ai singoli dispositiv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80462"/>
                </a:solidFill>
                <a:latin typeface="Tahoma"/>
              </a:rPr>
              <a:t>Un </a:t>
            </a:r>
            <a:r>
              <a:rPr b="1" lang="it-IT" sz="2300" spc="-1" strike="noStrike">
                <a:solidFill>
                  <a:srgbClr val="080462"/>
                </a:solidFill>
                <a:latin typeface="Tahoma"/>
              </a:rPr>
              <a:t>Sito nazionale</a:t>
            </a:r>
            <a:r>
              <a:rPr b="0" lang="it-IT" sz="2300" spc="-1" strike="noStrike">
                <a:solidFill>
                  <a:srgbClr val="080462"/>
                </a:solidFill>
                <a:latin typeface="Tahoma"/>
              </a:rPr>
              <a:t> in ogni Stato membro, collegato al portale europeo, fornirà informazioni specifiche e consentirà la fusione dei singoli documenti Europass in un unico documen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46600" y="-27000"/>
            <a:ext cx="5262480" cy="64764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ahoma"/>
              </a:rPr>
              <a:t>Il portafoglio Europ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990720"/>
            <a:ext cx="914400" cy="5029200"/>
          </a:xfrm>
          <a:prstGeom prst="rect">
            <a:avLst/>
          </a:prstGeom>
          <a:solidFill>
            <a:srgbClr val="00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8920" y="28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920" y="28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33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33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219320" y="6168960"/>
            <a:ext cx="706320" cy="636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270320" y="6165720"/>
            <a:ext cx="836640" cy="6397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7596360" y="6240600"/>
            <a:ext cx="820440" cy="406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144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ahoma"/>
              </a:rPr>
              <a:t>Il portafoglio Europ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762120"/>
            <a:ext cx="91440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6054840"/>
            <a:ext cx="9144000" cy="7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705720" y="6629400"/>
            <a:ext cx="25146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Area </a:t>
            </a:r>
            <a:r>
              <a:rPr b="1" lang="it-IT" sz="900" spc="-1" strike="noStrike">
                <a:solidFill>
                  <a:srgbClr val="080462"/>
                </a:solidFill>
                <a:latin typeface="Tahoma"/>
              </a:rPr>
              <a:t>Metodologie</a:t>
            </a: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 per la Formazi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172200"/>
            <a:ext cx="914400" cy="685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903240"/>
            <a:ext cx="659772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80462"/>
                </a:solidFill>
                <a:latin typeface="Tahoma"/>
              </a:rPr>
              <a:t>Attività dei </a:t>
            </a:r>
            <a:r>
              <a:rPr b="1" lang="en-US" sz="2400" spc="-1" strike="noStrike">
                <a:solidFill>
                  <a:srgbClr val="080462"/>
                </a:solidFill>
                <a:latin typeface="Tahoma"/>
              </a:rPr>
              <a:t>National Europass Centers</a:t>
            </a:r>
            <a:r>
              <a:rPr b="1" lang="it-IT" sz="2400" spc="-1" strike="noStrike">
                <a:solidFill>
                  <a:srgbClr val="080462"/>
                </a:solidFill>
                <a:latin typeface="Tahoma"/>
              </a:rPr>
              <a:t> (NEC) in ogni Stato memb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47920" y="1835280"/>
            <a:ext cx="7315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80000"/>
              </a:lnSpc>
              <a:spcBef>
                <a:spcPts val="451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80462"/>
                </a:solidFill>
                <a:latin typeface="Tahoma"/>
              </a:rPr>
              <a:t>Promozione</a:t>
            </a:r>
            <a:r>
              <a:rPr b="0" lang="it-IT" sz="1800" spc="-1" strike="noStrike">
                <a:solidFill>
                  <a:srgbClr val="080462"/>
                </a:solidFill>
                <a:latin typeface="Tahoma"/>
              </a:rPr>
              <a:t> di Europas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80000"/>
              </a:lnSpc>
              <a:spcBef>
                <a:spcPts val="451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80462"/>
                </a:solidFill>
                <a:latin typeface="Tahoma"/>
              </a:rPr>
              <a:t>Coordinamento </a:t>
            </a:r>
            <a:r>
              <a:rPr b="0" lang="it-IT" sz="1800" spc="-1" strike="noStrike">
                <a:solidFill>
                  <a:srgbClr val="080462"/>
                </a:solidFill>
                <a:latin typeface="Tahoma"/>
              </a:rPr>
              <a:t>delle </a:t>
            </a:r>
            <a:r>
              <a:rPr b="1" lang="it-IT" sz="1800" spc="-1" strike="noStrike">
                <a:solidFill>
                  <a:srgbClr val="080462"/>
                </a:solidFill>
                <a:latin typeface="Tahoma"/>
              </a:rPr>
              <a:t>attività</a:t>
            </a:r>
            <a:r>
              <a:rPr b="0" lang="it-IT" sz="1800" spc="-1" strike="noStrike">
                <a:solidFill>
                  <a:srgbClr val="080462"/>
                </a:solidFill>
                <a:latin typeface="Tahoma"/>
              </a:rPr>
              <a:t> necessarie per mettere a disposizione o </a:t>
            </a:r>
            <a:r>
              <a:rPr b="1" lang="it-IT" sz="1800" spc="-1" strike="noStrike">
                <a:solidFill>
                  <a:srgbClr val="080462"/>
                </a:solidFill>
                <a:latin typeface="Tahoma"/>
              </a:rPr>
              <a:t>rilasciare</a:t>
            </a:r>
            <a:r>
              <a:rPr b="0" lang="it-IT" sz="1800" spc="-1" strike="noStrike">
                <a:solidFill>
                  <a:srgbClr val="080462"/>
                </a:solidFill>
                <a:latin typeface="Tahoma"/>
              </a:rPr>
              <a:t> i documenti Europas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80000"/>
              </a:lnSpc>
              <a:spcBef>
                <a:spcPts val="451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80000"/>
              </a:lnSpc>
              <a:spcBef>
                <a:spcPts val="451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80462"/>
                </a:solidFill>
                <a:latin typeface="Tahoma"/>
              </a:rPr>
              <a:t>Informazione e orientamento</a:t>
            </a:r>
            <a:r>
              <a:rPr b="0" lang="it-IT" sz="1800" spc="-1" strike="noStrike">
                <a:solidFill>
                  <a:srgbClr val="080462"/>
                </a:solidFill>
                <a:latin typeface="Tahoma"/>
              </a:rPr>
              <a:t> su Europass e sui relativi document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80000"/>
              </a:lnSpc>
              <a:spcBef>
                <a:spcPts val="451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80462"/>
                </a:solidFill>
                <a:latin typeface="Tahoma"/>
              </a:rPr>
              <a:t>Creazione e gestione del </a:t>
            </a:r>
            <a:r>
              <a:rPr b="1" lang="it-IT" sz="1800" spc="-1" strike="noStrike">
                <a:solidFill>
                  <a:srgbClr val="080462"/>
                </a:solidFill>
                <a:latin typeface="Tahoma"/>
              </a:rPr>
              <a:t>sistema d'informazione nazionale</a:t>
            </a:r>
            <a:r>
              <a:rPr b="0" lang="it-IT" sz="1800" spc="-1" strike="noStrike">
                <a:solidFill>
                  <a:srgbClr val="080462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80000"/>
              </a:lnSpc>
              <a:spcBef>
                <a:spcPts val="451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80000"/>
              </a:lnSpc>
              <a:spcBef>
                <a:spcPts val="451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80462"/>
                </a:solidFill>
                <a:latin typeface="Tahoma"/>
              </a:rPr>
              <a:t>Partecipazione alla </a:t>
            </a:r>
            <a:r>
              <a:rPr b="1" lang="it-IT" sz="1800" spc="-1" strike="noStrike">
                <a:solidFill>
                  <a:srgbClr val="080462"/>
                </a:solidFill>
                <a:latin typeface="Tahoma"/>
              </a:rPr>
              <a:t>rete europea dei NEC</a:t>
            </a:r>
            <a:r>
              <a:rPr b="0" lang="it-IT" sz="1800" spc="-1" strike="noStrike">
                <a:solidFill>
                  <a:srgbClr val="080462"/>
                </a:solidFill>
                <a:latin typeface="Tahoma"/>
              </a:rPr>
              <a:t>, coordinata dalla Commissi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80000"/>
              </a:lnSpc>
              <a:spcBef>
                <a:spcPts val="451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80462"/>
                </a:solidFill>
                <a:latin typeface="Tahoma"/>
              </a:rPr>
              <a:t>Gestione</a:t>
            </a:r>
            <a:r>
              <a:rPr b="0" lang="it-IT" sz="1800" spc="-1" strike="noStrike">
                <a:solidFill>
                  <a:srgbClr val="080462"/>
                </a:solidFill>
                <a:latin typeface="Tahoma"/>
              </a:rPr>
              <a:t>, a livello nazionale, </a:t>
            </a:r>
            <a:r>
              <a:rPr b="1" lang="it-IT" sz="1800" spc="-1" strike="noStrike">
                <a:solidFill>
                  <a:srgbClr val="080462"/>
                </a:solidFill>
                <a:latin typeface="Tahoma"/>
              </a:rPr>
              <a:t>dei contributi finanziari comunitari</a:t>
            </a:r>
            <a:r>
              <a:rPr b="0" lang="it-IT" sz="1800" spc="-1" strike="noStrike">
                <a:solidFill>
                  <a:srgbClr val="080462"/>
                </a:solidFill>
                <a:latin typeface="Tahoma"/>
              </a:rPr>
              <a:t> per tutte le attività collegate alla </a:t>
            </a:r>
            <a:r>
              <a:rPr b="1" lang="it-IT" sz="1800" spc="-1" strike="noStrike">
                <a:solidFill>
                  <a:srgbClr val="080462"/>
                </a:solidFill>
                <a:latin typeface="Tahoma"/>
              </a:rPr>
              <a:t>trasparenza</a:t>
            </a:r>
            <a:r>
              <a:rPr b="0" lang="it-IT" sz="1800" spc="-1" strike="noStrike">
                <a:solidFill>
                  <a:srgbClr val="080462"/>
                </a:solidFill>
                <a:latin typeface="Tahoma"/>
              </a:rPr>
              <a:t> delle certificazio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80000"/>
              </a:lnSpc>
              <a:spcBef>
                <a:spcPts val="451"/>
              </a:spcBef>
              <a:buClr>
                <a:srgbClr val="0804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990720"/>
            <a:ext cx="914400" cy="5029200"/>
          </a:xfrm>
          <a:prstGeom prst="rect">
            <a:avLst/>
          </a:prstGeom>
          <a:solidFill>
            <a:srgbClr val="00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8920" y="28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8920" y="28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33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33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219320" y="6168960"/>
            <a:ext cx="706320" cy="6364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270320" y="6165720"/>
            <a:ext cx="836640" cy="6397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7596360" y="6240600"/>
            <a:ext cx="820440" cy="4064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144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762120"/>
            <a:ext cx="91440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6054840"/>
            <a:ext cx="9144000" cy="7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705720" y="6629400"/>
            <a:ext cx="25146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Area </a:t>
            </a:r>
            <a:r>
              <a:rPr b="1" lang="it-IT" sz="900" spc="-1" strike="noStrike">
                <a:solidFill>
                  <a:srgbClr val="080462"/>
                </a:solidFill>
                <a:latin typeface="Tahoma"/>
              </a:rPr>
              <a:t>Metodologie</a:t>
            </a: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 per la Formazi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6172200"/>
            <a:ext cx="914400" cy="685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101916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42920" y="44280"/>
            <a:ext cx="79916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Il coordinamento dei documenti Europ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95640" y="1268280"/>
            <a:ext cx="1439640" cy="1191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VE,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P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1268280"/>
            <a:ext cx="4752720" cy="94716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Il NEC facilita l’accesso e l’inform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95640" y="2924280"/>
            <a:ext cx="143964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E-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67280" y="2997360"/>
            <a:ext cx="4608360" cy="52056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Il NEC gestisce l’ac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00" y="1197000"/>
            <a:ext cx="1798560" cy="862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Comic Sans MS"/>
              </a:rPr>
              <a:t>Ac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Comic Sans MS"/>
              </a:rPr>
              <a:t>lib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00" y="2924280"/>
            <a:ext cx="1800000" cy="1594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cc"/>
                </a:solidFill>
                <a:latin typeface="Comic Sans MS"/>
              </a:rPr>
              <a:t>Accesso ristre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95640" y="4005360"/>
            <a:ext cx="143964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E-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67280" y="4076640"/>
            <a:ext cx="4608360" cy="52056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Il NEC offre l’ac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324000" y="134136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7850160" y="393372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7"/>
          <a:stretch/>
        </p:blipFill>
        <p:spPr>
          <a:xfrm>
            <a:off x="8308800" y="2565360"/>
            <a:ext cx="655920" cy="6555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8"/>
          <a:stretch/>
        </p:blipFill>
        <p:spPr>
          <a:xfrm>
            <a:off x="468360" y="270828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9"/>
          <a:stretch/>
        </p:blipFill>
        <p:spPr>
          <a:xfrm>
            <a:off x="8315280" y="321300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195640" y="5013360"/>
            <a:ext cx="143964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E-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5084640"/>
            <a:ext cx="4608360" cy="94716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Il NEC garantisce l’ac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105264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4000" y="5013360"/>
            <a:ext cx="129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869000"/>
            <a:ext cx="165564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Non deve essere compil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116000" y="3141720"/>
            <a:ext cx="7201080" cy="273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Video new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Tavola roto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unicato sta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t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stribuzione materiale promoz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16000" y="1628640"/>
            <a:ext cx="7201080" cy="1368720"/>
          </a:xfrm>
          <a:prstGeom prst="downArrowCallout">
            <a:avLst>
              <a:gd name="adj1" fmla="val 131541"/>
              <a:gd name="adj2" fmla="val 131529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90720"/>
            <a:ext cx="914400" cy="5029200"/>
          </a:xfrm>
          <a:prstGeom prst="rect">
            <a:avLst/>
          </a:prstGeom>
          <a:solidFill>
            <a:srgbClr val="00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8920" y="28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8920" y="28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33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33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219320" y="6168960"/>
            <a:ext cx="706320" cy="6364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4270320" y="6165720"/>
            <a:ext cx="836640" cy="6397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7596360" y="6240600"/>
            <a:ext cx="820440" cy="4064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000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762120"/>
            <a:ext cx="91440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6054840"/>
            <a:ext cx="9144000" cy="7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705720" y="6629400"/>
            <a:ext cx="25146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Area </a:t>
            </a:r>
            <a:r>
              <a:rPr b="1" lang="it-IT" sz="900" spc="-1" strike="noStrike">
                <a:solidFill>
                  <a:srgbClr val="080462"/>
                </a:solidFill>
                <a:latin typeface="Tahoma"/>
              </a:rPr>
              <a:t>Metodologie</a:t>
            </a: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 per la Formazi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6172200"/>
            <a:ext cx="914400" cy="685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1116000" y="1125000"/>
            <a:ext cx="6912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nferenza di Maastricht (15 dicembre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nferenza di Lussemburgo (31/1-1/2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903240" y="44280"/>
            <a:ext cx="77724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ahoma"/>
              </a:rPr>
              <a:t>La promozione del portafoglio Euro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792600" y="3201840"/>
            <a:ext cx="15714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Programm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619280" y="1773360"/>
            <a:ext cx="7056360" cy="1726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990720"/>
            <a:ext cx="914400" cy="5029200"/>
          </a:xfrm>
          <a:prstGeom prst="rect">
            <a:avLst/>
          </a:prstGeom>
          <a:solidFill>
            <a:srgbClr val="00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8920" y="28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8920" y="28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33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33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219320" y="6168960"/>
            <a:ext cx="706320" cy="6364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4270320" y="6165720"/>
            <a:ext cx="836640" cy="6397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7596360" y="6240600"/>
            <a:ext cx="820440" cy="4064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82692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762120"/>
            <a:ext cx="91440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6054840"/>
            <a:ext cx="9144000" cy="7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6705720" y="6629400"/>
            <a:ext cx="25146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Area </a:t>
            </a:r>
            <a:r>
              <a:rPr b="1" lang="it-IT" sz="900" spc="-1" strike="noStrike">
                <a:solidFill>
                  <a:srgbClr val="080462"/>
                </a:solidFill>
                <a:latin typeface="Tahoma"/>
              </a:rPr>
              <a:t>Metodologie</a:t>
            </a: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 per la Formazi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6172200"/>
            <a:ext cx="914400" cy="685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03240" y="44280"/>
            <a:ext cx="7772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ahoma"/>
              </a:rPr>
              <a:t>La cooperazione con i servizi di informazione e orien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20096400">
            <a:off x="2625480" y="1989360"/>
            <a:ext cx="3076560" cy="5814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Eurogui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20096400">
            <a:off x="4425840" y="2185920"/>
            <a:ext cx="2981160" cy="94716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66"/>
                </a:solidFill>
                <a:latin typeface="Arial"/>
              </a:rPr>
              <a:t>Centri locali di orient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20096400">
            <a:off x="4570200" y="1700280"/>
            <a:ext cx="230508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E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20096400">
            <a:off x="6730920" y="1844640"/>
            <a:ext cx="2124000" cy="947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genzia Leonar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20096400">
            <a:off x="2193840" y="2192760"/>
            <a:ext cx="1439640" cy="5814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66ff"/>
                </a:solidFill>
                <a:latin typeface="Arial"/>
              </a:rPr>
              <a:t>NR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20096400">
            <a:off x="501480" y="2060640"/>
            <a:ext cx="2700360" cy="5814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00"/>
                </a:solidFill>
                <a:latin typeface="Arial"/>
              </a:rPr>
              <a:t>NARIC/E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 rot="21274200">
            <a:off x="3560760" y="1616040"/>
            <a:ext cx="93996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NEC</a:t>
            </a:r>
            <a:endParaRPr b="0" lang="en-US" sz="16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3635280" y="4941720"/>
            <a:ext cx="1944720" cy="8146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rot="20096400">
            <a:off x="6235560" y="2984400"/>
            <a:ext cx="157464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333399"/>
                </a:solidFill>
                <a:latin typeface="Tahoma"/>
              </a:rPr>
              <a:t>Due approcci complementa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Tahoma"/>
              </a:rPr>
              <a:t>Soluzione  I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Tahoma"/>
              </a:rPr>
              <a:t>Approccio legislativ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Tahoma"/>
              </a:rPr>
              <a:t>Riconoscimento giuridic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fr-FR" sz="3200" spc="-1" strike="noStrike">
                <a:solidFill>
                  <a:srgbClr val="333399"/>
                </a:solidFill>
                <a:latin typeface="Tahoma"/>
              </a:rPr>
              <a:t>pesante, ma necessario per alcune profes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17287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333399"/>
                </a:solidFill>
                <a:latin typeface="Tahoma"/>
              </a:rPr>
              <a:t>Due approcci complementa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Tahoma"/>
              </a:rPr>
              <a:t>Soluzione II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Tahoma"/>
              </a:rPr>
              <a:t>Approccio pragmatic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Tahoma"/>
              </a:rPr>
              <a:t>Trasparenza:</a:t>
            </a:r>
            <a:br>
              <a:rPr sz="4000"/>
            </a:br>
            <a:r>
              <a:rPr b="1" lang="fr-FR" sz="3200" spc="-1" strike="noStrike">
                <a:solidFill>
                  <a:srgbClr val="333399"/>
                </a:solidFill>
                <a:latin typeface="Tahoma"/>
              </a:rPr>
              <a:t>Per tutti i casi che non necessitano un approccio legislativo</a:t>
            </a:r>
            <a:r>
              <a:rPr b="1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17287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8920" y="28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8920" y="28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33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19320" y="6168960"/>
            <a:ext cx="706320" cy="636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736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270320" y="6165720"/>
            <a:ext cx="836640" cy="639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596360" y="6240600"/>
            <a:ext cx="820440" cy="406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990720"/>
            <a:ext cx="914400" cy="5029200"/>
          </a:xfrm>
          <a:prstGeom prst="rect">
            <a:avLst/>
          </a:prstGeom>
          <a:solidFill>
            <a:srgbClr val="00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62120"/>
            <a:ext cx="91440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054840"/>
            <a:ext cx="9144000" cy="7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705720" y="6629400"/>
            <a:ext cx="25146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Area </a:t>
            </a:r>
            <a:r>
              <a:rPr b="1" lang="it-IT" sz="900" spc="-1" strike="noStrike">
                <a:solidFill>
                  <a:srgbClr val="080462"/>
                </a:solidFill>
                <a:latin typeface="Tahoma"/>
              </a:rPr>
              <a:t>Metodologie</a:t>
            </a: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 per la Formazi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172200"/>
            <a:ext cx="914400" cy="685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258920" y="0"/>
            <a:ext cx="1728720" cy="628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58920" y="1189800"/>
            <a:ext cx="7634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LO SCENARIO EUROPEO DOPO COPENAGHEN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1700280"/>
            <a:ext cx="788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Il 30 novembre 2002 i Ministri dell'Istruzione di 31 paesi europei (UE + SEE) e la Commissione europea hanno adottato la Dichiarazione di Copenaghen sulla promozione di una maggiore cooperazione europea in materia di istruzione e formazione professionale finalizzata ad una serie di risultati concreti:</a:t>
            </a: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3429000"/>
            <a:ext cx="81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Un quadro unico per la trasparenza di competenze e qualifich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Un sistema di trasferimento di crediti per l'istruzione e la    formazione professiona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Principi qualitativi comuni in materia di istruzione e formazione professiona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Principi comuni per la validazione dell‘apprendimento formale e  non for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ervizi di consulenza e di orientamento professionale perman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03280" y="1341360"/>
            <a:ext cx="748980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99"/>
                </a:solidFill>
                <a:latin typeface="Tahoma"/>
              </a:rPr>
              <a:t>Una maggiore traspar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Per far valere le proprie competenze e qualificazioni nel mercato europeo del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Per una maggiore stabilità dell’Euro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17287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87280" y="2133720"/>
            <a:ext cx="7417080" cy="38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Tahoma"/>
              </a:rPr>
              <a:t>Creare uno spazio europeo di libera circolazione dei cittadi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Tahoma"/>
              </a:rPr>
              <a:t>Per lavor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Tahoma"/>
              </a:rPr>
              <a:t>Per studi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Tahoma"/>
              </a:rPr>
              <a:t>Per formarsi lungo tutto l’arco della v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Tahoma"/>
              </a:rPr>
              <a:t>IN TUTTA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15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00000" y="0"/>
            <a:ext cx="1729080" cy="765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990720"/>
            <a:ext cx="914400" cy="5029200"/>
          </a:xfrm>
          <a:prstGeom prst="rect">
            <a:avLst/>
          </a:prstGeom>
          <a:solidFill>
            <a:srgbClr val="00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172200"/>
            <a:ext cx="914400" cy="685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187280" y="6221520"/>
            <a:ext cx="706680" cy="636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995640" y="6102360"/>
            <a:ext cx="836640" cy="639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7667640" y="6165720"/>
            <a:ext cx="820800" cy="406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6021360"/>
            <a:ext cx="9144000" cy="7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6453360"/>
            <a:ext cx="2514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Area </a:t>
            </a:r>
            <a:r>
              <a:rPr b="1" lang="it-IT" sz="900" spc="-1" strike="noStrike">
                <a:solidFill>
                  <a:srgbClr val="080462"/>
                </a:solidFill>
                <a:latin typeface="Tahoma"/>
              </a:rPr>
              <a:t>Metodologie</a:t>
            </a:r>
            <a:r>
              <a:rPr b="1" lang="it-IT" sz="900" spc="-1" strike="noStrike">
                <a:solidFill>
                  <a:srgbClr val="00384c"/>
                </a:solidFill>
                <a:latin typeface="Tahoma"/>
              </a:rPr>
              <a:t> per la Formazi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47560" y="103824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La sfida di Europ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11280" y="2060640"/>
            <a:ext cx="8280360" cy="29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Diversi strumenti per la trasparenza delle qualifiche e delle competen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- a livello europ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- a livello nazionale e reg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- a livello settor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17287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72080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A livello europeo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333399"/>
                </a:solidFill>
                <a:uFillTx/>
                <a:latin typeface="Tahoma"/>
              </a:rPr>
              <a:t>Trasparenza delle qualificazioni</a:t>
            </a: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Supplemento al Diploma – 199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333399"/>
                </a:solidFill>
                <a:latin typeface="Tahoma"/>
              </a:rPr>
              <a:t>Unesco, Consiglio d’Europa, Commi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Supplemento al Certificato –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fr-F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333399"/>
                </a:solidFill>
                <a:latin typeface="Tahoma"/>
              </a:rPr>
              <a:t>Accordi tra Stati memb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0"/>
            <a:ext cx="2819520" cy="685800"/>
          </a:xfrm>
          <a:prstGeom prst="rect">
            <a:avLst/>
          </a:prstGeom>
          <a:solidFill>
            <a:srgbClr val="a3c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0"/>
            <a:ext cx="5334120" cy="68580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920" y="25560"/>
            <a:ext cx="820800" cy="641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17287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erta Pistagni</cp:lastModifiedBy>
  <dcterms:modified xsi:type="dcterms:W3CDTF">2005-04-01T14:18:29Z</dcterms:modified>
  <cp:revision>54</cp:revision>
  <dc:subject/>
  <dc:title>PowerPoint Presentation</dc:title>
</cp:coreProperties>
</file>