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74D-F356-433C-8D59-F8F978BC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446-F402-473E-9D51-A6F4CD39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394-530E-436A-AD06-7E99D271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15C-33C0-479B-BC8B-32FCA0DE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99C5-C317-4A7F-8141-53C84199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E505-2152-4B41-907D-3F361547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4252-503F-4572-9574-E360AA1D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C2C0-ADDF-4156-83B5-1F212BEF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1BA3-30C2-4180-88AF-B2F84934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0311-498C-4272-9831-E55FFADF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9BA8-6F97-41A8-B024-95D979AD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DC0-D166-470B-81A0-4A9F27CF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7403-C202-435C-98BF-78589FA5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2C40-A3E5-4673-9426-98154C7D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3EAB-A109-400D-B1A6-8C88E292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E96E-306D-4671-8F14-52B64DE9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1444-CB5A-44EC-9C49-5CDD5E79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A28-7340-44A8-BC02-0D575B5F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303-D25C-4FD1-B02C-62DC6A72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8B91-2C82-4B7E-90E6-CFEBE1D5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780-FEF4-4C9E-A9E9-F15C48D3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CDD-83BF-4210-8FBE-06EB5C07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0E4-2C06-4E03-B345-A6507949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4E0-8CB6-463C-ABEF-213DA180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5976-A838-4B2F-9660-DFCDBF0CED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0EE5-72F7-4AB5-9301-4F2CE638C4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os.camcom.it/portal/alias__UTC/DesktopDefault.aspx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os.camcom.it/portal/alias__UTC/DesktopDefault.aspx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os.camcom.it/portal/alias__UTC/DesktopDefault.aspx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os.camcom.it/portal/alias__UTC/DesktopDefault.aspx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os.camcom.it/portal/alias__UTC/DesktopDefault.aspx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780000" y="5445000"/>
            <a:ext cx="709560" cy="1008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5950080"/>
            <a:ext cx="165600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16034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Bookman Old Style"/>
              </a:rPr>
              <a:t>LA NORM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57200" y="2757600"/>
            <a:ext cx="8458200" cy="3407760"/>
            <a:chOff x="457200" y="2757600"/>
            <a:chExt cx="8458200" cy="3407760"/>
          </a:xfrm>
        </p:grpSpPr>
        <p:sp>
          <p:nvSpPr>
            <p:cNvPr id="88" name=""/>
            <p:cNvSpPr/>
            <p:nvPr/>
          </p:nvSpPr>
          <p:spPr>
            <a:xfrm>
              <a:off x="457200" y="5860800"/>
              <a:ext cx="7918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2757600"/>
              <a:ext cx="824220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cc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33cc"/>
                  </a:solidFill>
                  <a:latin typeface="Arial"/>
                </a:rPr>
                <a:t>   </a:t>
              </a:r>
              <a:r>
                <a:rPr b="1" lang="it-IT" sz="1600" spc="-1" strike="noStrike">
                  <a:solidFill>
                    <a:srgbClr val="0033cc"/>
                  </a:solidFill>
                  <a:latin typeface="Arial"/>
                </a:rPr>
                <a:t>Legge    28 marzo 2003, n. 5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Delega al Governo per la definizione delle norme generali sull’istruzione e dei livelli essenziali delle prestazioni in materia di istruzione e di formazione profession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(GU n. 77 del 2 aprile 200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3916080"/>
              <a:ext cx="84582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cc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33cc"/>
                  </a:solidFill>
                  <a:latin typeface="Arial"/>
                </a:rPr>
                <a:t>   </a:t>
              </a:r>
              <a:r>
                <a:rPr b="1" lang="it-IT" sz="1600" spc="-1" strike="noStrike">
                  <a:solidFill>
                    <a:srgbClr val="0033cc"/>
                  </a:solidFill>
                  <a:latin typeface="Arial"/>
                </a:rPr>
                <a:t>Decreto legislativo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Definizione delle norme generali relative all’alternanza scuola-lavoro, ai sensi dell’articolo 4 della legge 28 marzo 2003, n. 5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7200" y="4906800"/>
              <a:ext cx="81961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38160">
            <a:solidFill>
              <a:srgbClr val="3549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0920" y="71280"/>
            <a:ext cx="5145120" cy="1179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5720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260280"/>
            <a:ext cx="122364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38160">
            <a:solidFill>
              <a:srgbClr val="3549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0920" y="71280"/>
            <a:ext cx="5145120" cy="117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57200" cy="647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260280"/>
            <a:ext cx="1223640" cy="366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666880" y="16002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Bookman Old Style"/>
              </a:rPr>
              <a:t>I SOGGETTI COINVOL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2298600"/>
            <a:ext cx="7315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ione Regionale delle Camere di Commercio della Toscan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mere di Commercio di Arezzo, Firenze, Grosseto, Livorno,  Lucc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assa Carrara, Pisa, Pistoia, Sien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3289320"/>
            <a:ext cx="69343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fficio Scolastico Regionale della Tosca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stituti di istruzione secondaria superiore della Tosca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437000"/>
            <a:ext cx="656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rganizzazioni - Aziende/Enti Pubblici e privati delle province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rezzo, Firenze, Grosseto, Livorno, Lucca, Massa Carrara, Pis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istoia, Si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5229360"/>
            <a:ext cx="7315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.O.A.P.Centro di Orientamento e Aggiornamento Profess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zienda  Speciale della CCIAA  di Grosse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38160">
            <a:solidFill>
              <a:srgbClr val="3549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71280"/>
            <a:ext cx="5145120" cy="1179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79640" y="3429000"/>
            <a:ext cx="1779480" cy="1152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Sistema del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Camere di Commer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1844640"/>
            <a:ext cx="1347840" cy="836640"/>
          </a:xfrm>
          <a:prstGeom prst="flowChartProcess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Unionca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Regione Tosc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C.O.A.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0360" y="1844640"/>
            <a:ext cx="1363680" cy="863640"/>
          </a:xfrm>
          <a:prstGeom prst="flowChartProcess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Ufficio Scola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Regionale per 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Tosc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37400" y="3429000"/>
            <a:ext cx="1777680" cy="11509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Istituzio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Scolast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Provincia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792760"/>
            <a:ext cx="1296720" cy="836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Organizzazio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Impr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cc66"/>
                </a:solidFill>
                <a:latin typeface="Arial"/>
              </a:rPr>
              <a:t>Enti pubblic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99360" y="4591080"/>
            <a:ext cx="1440" cy="156348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36960" y="4591080"/>
            <a:ext cx="1440" cy="156348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6172200"/>
            <a:ext cx="129528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4005360"/>
            <a:ext cx="1942920" cy="14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6172200"/>
            <a:ext cx="6001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52000" y="4292640"/>
            <a:ext cx="2213640" cy="1665360"/>
            <a:chOff x="3852000" y="4292640"/>
            <a:chExt cx="2213640" cy="1665360"/>
          </a:xfrm>
        </p:grpSpPr>
        <p:sp>
          <p:nvSpPr>
            <p:cNvPr id="120" name=""/>
            <p:cNvSpPr/>
            <p:nvPr/>
          </p:nvSpPr>
          <p:spPr>
            <a:xfrm>
              <a:off x="3919320" y="4381560"/>
              <a:ext cx="648000" cy="5288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2000" y="4292640"/>
              <a:ext cx="72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cc66"/>
                  </a:solidFill>
                  <a:latin typeface="Arial"/>
                </a:rPr>
                <a:t> </a:t>
              </a:r>
              <a:r>
                <a:rPr b="1" lang="it-IT" sz="1200" spc="-1" strike="noStrike">
                  <a:solidFill>
                    <a:srgbClr val="ffcc66"/>
                  </a:solidFill>
                  <a:latin typeface="Arial"/>
                </a:rPr>
                <a:t>Arezz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38560" y="4530960"/>
              <a:ext cx="647640" cy="5284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0200" y="444492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cc66"/>
                  </a:solidFill>
                  <a:latin typeface="Arial"/>
                </a:rPr>
                <a:t>Firen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56000" y="4680000"/>
              <a:ext cx="649440" cy="5288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58080" y="4597560"/>
              <a:ext cx="85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cc66"/>
                  </a:solidFill>
                  <a:latin typeface="Arial"/>
                </a:rPr>
                <a:t>Grosse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5240" y="4829400"/>
              <a:ext cx="647640" cy="5284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94120" y="4980240"/>
              <a:ext cx="647640" cy="5284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93040" y="490212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cc66"/>
                  </a:solidFill>
                  <a:latin typeface="Arial"/>
                </a:rPr>
                <a:t>Luc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11560" y="5129280"/>
              <a:ext cx="647640" cy="5284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2840" y="5054760"/>
              <a:ext cx="49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cc66"/>
                  </a:solidFill>
                  <a:latin typeface="Arial"/>
                </a:rPr>
                <a:t>Pi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30800" y="5278680"/>
              <a:ext cx="647640" cy="5284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8680" y="5207040"/>
              <a:ext cx="68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cc66"/>
                  </a:solidFill>
                  <a:latin typeface="Arial"/>
                </a:rPr>
                <a:t>Pisto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02520" y="474984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cc66"/>
                  </a:solidFill>
                  <a:latin typeface="Arial"/>
                </a:rPr>
                <a:t>Livor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8000" y="5427720"/>
              <a:ext cx="647640" cy="530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34560" y="5405400"/>
              <a:ext cx="58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cc66"/>
                  </a:solidFill>
                  <a:latin typeface="Arial"/>
                </a:rPr>
                <a:t>Si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 txBox="1"/>
          <p:nvPr/>
        </p:nvSpPr>
        <p:spPr>
          <a:xfrm rot="16200000">
            <a:off x="-1526760" y="3833640"/>
            <a:ext cx="476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 Black"/>
              </a:rPr>
              <a:t>Il sistema di rete integra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0000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57200" cy="647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260280"/>
            <a:ext cx="122364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9880" y="2284560"/>
            <a:ext cx="1943280" cy="14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2286000"/>
            <a:ext cx="0" cy="1600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297160" y="1724040"/>
          <a:ext cx="4549680" cy="3408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24040"/>
                    <a:ext cx="454968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050920" y="71280"/>
            <a:ext cx="5145120" cy="1179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45720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7596360" y="260280"/>
            <a:ext cx="1223640" cy="366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95280" y="2286000"/>
            <a:ext cx="83822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Creare un Sistema Territoriale di Rete Integrato tra Camere di Commer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Istituzioni scolastiche,Organizzazioni, (Aziende-Enti Pubblici)i finalizzato a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sperimentazione, attuazione e monitoraggio di un modello di apprendimento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alternanza scuola-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4251240"/>
            <a:ext cx="784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Migliorare l’efficacia didattica del percorso scolastico fornendo al tempo st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all’alunno maggiori opportunità di inserire un’esperienza d’impresa durante 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proprio percorso di for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57754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Favorire l’acquisizione di competenze spendibili nel mercato del lavoro 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parte dei giovani stu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1600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Bookman Old Style"/>
              </a:rPr>
              <a:t>OBIETTIVI GENERALI DEL PRO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38160">
            <a:solidFill>
              <a:srgbClr val="3549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38160">
            <a:solidFill>
              <a:srgbClr val="3549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050920" y="71280"/>
            <a:ext cx="5145120" cy="1179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57200" cy="647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260280"/>
            <a:ext cx="122364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3880" y="162864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IL PIANO DELLE ATTIV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0960" y="3001320"/>
            <a:ext cx="53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Formazione dei referenti Camere di Commerc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9160" y="360756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Formazione dei tutor scolast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9160" y="418392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Attivazione del sistema organizz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7720" y="4784040"/>
            <a:ext cx="602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Orientamento/Formazione in alternanza degli stud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46440" y="539352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Preparazione materiale didat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440" y="6003360"/>
            <a:ext cx="45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Attività di promozione e dissemin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36720" y="2362320"/>
            <a:ext cx="64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Coordinamento, monitoraggio e val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2362320"/>
            <a:ext cx="10666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FAS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955960"/>
            <a:ext cx="10666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F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3565440"/>
            <a:ext cx="10666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FAS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4175280"/>
            <a:ext cx="10666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4784760"/>
            <a:ext cx="10666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FAS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5394240"/>
            <a:ext cx="10666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FASE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004080"/>
            <a:ext cx="10666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FASE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1752480"/>
            <a:ext cx="6782040" cy="477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COORDIN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057400" y="2625840"/>
            <a:ext cx="6646680" cy="3539880"/>
            <a:chOff x="2057400" y="2625840"/>
            <a:chExt cx="6646680" cy="3539880"/>
          </a:xfrm>
        </p:grpSpPr>
        <p:sp>
          <p:nvSpPr>
            <p:cNvPr id="175" name=""/>
            <p:cNvSpPr/>
            <p:nvPr/>
          </p:nvSpPr>
          <p:spPr>
            <a:xfrm>
              <a:off x="2057400" y="2625840"/>
              <a:ext cx="4056120" cy="1018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43680" y="2625840"/>
              <a:ext cx="2660400" cy="3539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50800" bIns="10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5480" y="290808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Arial"/>
                </a:rPr>
                <a:t>MONITORAGG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Arial"/>
                </a:rPr>
                <a:t>E </a:t>
              </a:r>
              <a:r>
                <a:rPr b="0" lang="it-IT" sz="1800" spc="-1" strike="noStrike">
                  <a:solidFill>
                    <a:srgbClr val="3333cc"/>
                  </a:solidFill>
                  <a:latin typeface="Arial"/>
                </a:rPr>
                <a:t>VALUT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057400" y="3645000"/>
            <a:ext cx="4754520" cy="2520720"/>
            <a:chOff x="2057400" y="3645000"/>
            <a:chExt cx="4754520" cy="2520720"/>
          </a:xfrm>
        </p:grpSpPr>
        <p:sp>
          <p:nvSpPr>
            <p:cNvPr id="179" name=""/>
            <p:cNvSpPr/>
            <p:nvPr/>
          </p:nvSpPr>
          <p:spPr>
            <a:xfrm>
              <a:off x="2057400" y="3645000"/>
              <a:ext cx="4754520" cy="2520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79680" y="4962600"/>
              <a:ext cx="14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Arial"/>
                </a:rPr>
                <a:t>MATERI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Arial"/>
                </a:rPr>
                <a:t>DIDAT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38160">
            <a:solidFill>
              <a:srgbClr val="3549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71280"/>
            <a:ext cx="5145120" cy="1179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57200" cy="647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596360" y="260280"/>
            <a:ext cx="122364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rot="16200000">
            <a:off x="-1980720" y="3809520"/>
            <a:ext cx="57927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00"/>
                </a:solidFill>
                <a:latin typeface="Bookman Old Style"/>
              </a:rPr>
              <a:t>IL PIANO DELLE ATTIVITA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362320" y="2743200"/>
            <a:ext cx="5873400" cy="3587760"/>
            <a:chOff x="2362320" y="2743200"/>
            <a:chExt cx="5873400" cy="3587760"/>
          </a:xfrm>
        </p:grpSpPr>
        <p:sp>
          <p:nvSpPr>
            <p:cNvPr id="187" name=""/>
            <p:cNvSpPr/>
            <p:nvPr/>
          </p:nvSpPr>
          <p:spPr>
            <a:xfrm>
              <a:off x="2362320" y="2743200"/>
              <a:ext cx="1396800" cy="873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cc66"/>
                  </a:solidFill>
                  <a:latin typeface="Arial"/>
                </a:rPr>
                <a:t>FORMAZ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cc66"/>
                  </a:solidFill>
                  <a:latin typeface="Arial"/>
                </a:rPr>
                <a:t>Referenti Camer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83000" y="3403440"/>
              <a:ext cx="1468440" cy="873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cc66"/>
                  </a:solidFill>
                  <a:latin typeface="Arial"/>
                </a:rPr>
                <a:t>FORMAZ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cc66"/>
                  </a:solidFill>
                  <a:latin typeface="Arial"/>
                </a:rPr>
                <a:t>Tu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30680" y="4022640"/>
              <a:ext cx="1119240" cy="7509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ffcc66"/>
                  </a:solidFill>
                  <a:latin typeface="Arial"/>
                </a:rPr>
                <a:t>ATTIVAZIONE SISTEMA organizzazion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0640" y="4609800"/>
              <a:ext cx="1482480" cy="119556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ffcc66"/>
                  </a:solidFill>
                  <a:latin typeface="Arial"/>
                </a:rPr>
                <a:t>FORMAZIO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ffcc66"/>
                  </a:solidFill>
                  <a:latin typeface="Arial"/>
                </a:rPr>
                <a:t>ORIENTA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ffcc66"/>
                  </a:solidFill>
                  <a:latin typeface="Arial"/>
                </a:rPr>
                <a:t> </a:t>
              </a:r>
              <a:r>
                <a:rPr b="1" lang="it-IT" sz="1000" spc="-1" strike="noStrike">
                  <a:solidFill>
                    <a:srgbClr val="ffcc66"/>
                  </a:solidFill>
                  <a:latin typeface="Arial"/>
                </a:rPr>
                <a:t>ALTERNANZ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ffcc66"/>
                  </a:solidFill>
                  <a:latin typeface="Arial"/>
                </a:rPr>
                <a:t>studen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69080" y="5645160"/>
              <a:ext cx="1466640" cy="6858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5e75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ffcc66"/>
                  </a:solidFill>
                  <a:latin typeface="Arial"/>
                </a:rPr>
                <a:t>DISSEMINAZIONE</a:t>
              </a:r>
              <a:r>
                <a:rPr b="1" lang="it-IT" sz="1000" spc="-1" strike="noStrike">
                  <a:solidFill>
                    <a:srgbClr val="ffcc66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ffcc66"/>
                  </a:solidFill>
                  <a:latin typeface="Arial"/>
                </a:rPr>
                <a:t>DEI RISULTATI</a:t>
              </a:r>
              <a:r>
                <a:rPr b="1" lang="it-IT" sz="1000" spc="-1" strike="noStrike">
                  <a:solidFill>
                    <a:srgbClr val="ffcc66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38160">
            <a:solidFill>
              <a:srgbClr val="3549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50920" y="71280"/>
            <a:ext cx="5145120" cy="1179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57200" cy="647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7596360" y="260280"/>
            <a:ext cx="1223640" cy="366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50920" y="1557360"/>
            <a:ext cx="910116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ntro Territoriale Permanente</cp:lastModifiedBy>
  <dcterms:modified xsi:type="dcterms:W3CDTF">2005-04-06T09:54:31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28371697</vt:r8>
  </property>
  <property fmtid="{D5CDD505-2E9C-101B-9397-08002B2CF9AE}" pid="3" name="_AuthorEmail">
    <vt:lpwstr>polidori.coap@gr.camcom.it</vt:lpwstr>
  </property>
  <property fmtid="{D5CDD505-2E9C-101B-9397-08002B2CF9AE}" pid="4" name="_AuthorEmailDisplayName">
    <vt:lpwstr>Sara Polidori</vt:lpwstr>
  </property>
  <property fmtid="{D5CDD505-2E9C-101B-9397-08002B2CF9AE}" pid="5" name="_EmailSubject">
    <vt:lpwstr>Presentazione Progetto Alternanza Scuola Lavoro</vt:lpwstr>
  </property>
  <property fmtid="{D5CDD505-2E9C-101B-9397-08002B2CF9AE}" pid="6" name="_ReviewingToolsShownOnce">
    <vt:lpwstr/>
  </property>
</Properties>
</file>