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27.wmf" ContentType="image/x-wmf"/>
  <Override PartName="/ppt/media/image16.png" ContentType="image/png"/>
  <Override PartName="/ppt/media/image15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1.png" ContentType="image/png"/>
  <Override PartName="/ppt/media/image21.gif" ContentType="image/gif"/>
  <Override PartName="/ppt/media/image2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8F4-AC3E-4536-B85A-F1FCA84F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96D-F2EC-4344-9CCC-6685EA7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E98-7BC4-4B21-A202-95B558B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782-A2EE-417E-B97B-67D685D1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4D31-D31A-4EB0-B47F-4B35E6A6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81C5-8CDF-40D4-8AC4-26ADDEF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5218-D7CA-4C89-B2F4-251DE09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795-4B50-4222-99F2-7687E6F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12D-2DD5-4C9B-B858-F1665CC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41DE-A130-490D-8639-E08A0CE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410-6B9F-49A0-AB4E-313BEAA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3F6-0906-4C69-BCFC-ACDCF62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43E5-E166-47B7-9818-479A8C8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246-CF97-45E8-98B8-0B0AF8B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E335-D30B-41CA-9A5F-9DA588F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74DB-16FB-4480-80C8-4908882E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E7D4-42BF-4B23-A716-95E69A44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2F8-0054-484A-821C-7B2AE28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2A6-65D1-4910-9DD9-DC1D1422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7A7-6544-4865-8CFC-192D2B1E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208-9427-4B1A-9657-BF8DE28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64E-1997-4B75-99FD-93938AD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E89-A7B7-4090-AE0A-EB5DF0E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E7A-0EFB-4D87-ACF4-5E4F7D7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355-5074-4D7A-8A02-F4E830CA14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828-7071-4C0F-A658-288F0246459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ETE TOSCANA D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ENTRI TERRITORIALI PERMAN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er l’istruzione e la formazione in età ad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/o Direzione Didattica Sta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 Via Gramsci 139, Lastra a Signa (FI)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l. 055/8744068 – fax 055/87281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 – mail segreteria ctp:ctplastra@tiscali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50055 Lastra a Signa (F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viamo tante storie di collaborazione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4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perché la/e rete/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lla logica del castello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908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a logica delle “ret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085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ete è acefala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119320" cy="274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84360" y="1989000"/>
            <a:ext cx="4175280" cy="3745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2060640"/>
            <a:ext cx="4248360" cy="37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tti sullo stesso pi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11280" y="1484280"/>
          <a:ext cx="8229600" cy="45784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372360" y="21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386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63640" y="2133720"/>
            <a:ext cx="1552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rete CT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516720" y="1413000"/>
            <a:ext cx="73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US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59280" y="4724280"/>
            <a:ext cx="1952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rete ser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4581360"/>
            <a:ext cx="738000" cy="7225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63640" y="4149720"/>
            <a:ext cx="819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IR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llabo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 collaborazione deve esprimersi attraverso accordi di r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34624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soggetti dell’accor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104920" cy="2833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4873680" cy="79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732720" y="3645000"/>
          <a:ext cx="185724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645000"/>
                    <a:ext cx="185724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627280" y="3933720"/>
            <a:ext cx="3494160" cy="2309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268360" y="4508640"/>
            <a:ext cx="416088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cuole superiori ser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Rete dei CTP assume come positiva la proposta di collaborazione tra CTP e Scuole Superiori Serali, al fine di fare rientrare in formazione i giovani tra i 20 e i 24 anni (ma non solo loro …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3570480" cy="2372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050920" y="260280"/>
            <a:ext cx="5829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Gli oggetti dell'accor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Rete dei CTP è favorevole e pronta a “sperimentare” le novità di moduli integrati tra CTP e Scuole Superiori Ser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3476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entro in formazione dei giovani tra i 20 e i 24 anni al fine di conseguire un diploma di Scuola Superi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3041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561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7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conoscimento dei credi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4811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lare con una sola voce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4337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tica degli organici uniforme sul territorio region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oste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411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m di support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732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rsi i tempi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31896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8840" y="30492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“rete” dei CTP toscani nel sistema formativo integra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petta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blemati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3638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CTP della Toscana sono in “rete” dal 28 settembre 200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 novembre del 2003 è stato firmato il nuovo accordo di 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ualmente fanno parte della rete tutti i CTP toscani, che sono 33, eterogenei per organico e dimension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numero degli iscritti varia da un centinaio a più di duemila, e l’organico da 0 unità a 20 docenti (esclusi quelli a contratto), così come la dimensione territoriale varia da un insieme di piccoli Comuni a una intera provi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TP, USR, IRRE, RETE SERALI: soggetti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istinti 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2940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che collaborano tra loro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381132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modello effic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aborare nell’autono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81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apriamo il nostro diario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54840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7:51:23Z</dcterms:created>
  <dc:creator>Lupo</dc:creator>
  <dc:description/>
  <dc:language>en-US</dc:language>
  <cp:lastModifiedBy>Condorelli Giovanni</cp:lastModifiedBy>
  <dcterms:modified xsi:type="dcterms:W3CDTF">2005-04-01T10:26:00Z</dcterms:modified>
  <cp:revision>11</cp:revision>
  <dc:subject/>
  <dc:title>Diapositiva 1</dc:title>
</cp:coreProperties>
</file>