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2F2-3E69-415C-8D17-AB46A138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822-D969-431D-9DDD-B51F00E8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80C-51B2-4AD0-9B0A-44C3CA83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A0D-562A-493E-816A-7562DBA6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2A9-9B38-4D7F-96D2-3FC4419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A73-788C-4F30-B67C-E927464D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349-C342-41EA-9083-764A24F5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F15-C1F6-4111-ADDD-AD8AAB5F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DAA-9567-40C0-A561-3C97069F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E56-4FD0-4AE4-A626-EEB0178D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D2D-BEB3-47ED-B20D-8C5AE62C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30A-3DF7-4125-890C-EB9BD4B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F6AF-E0D4-45CE-A4DA-C1F2F7071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" Target="slide22.xml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8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image" Target="../media/image20.jpeg"/><Relationship Id="rId4" Type="http://schemas.openxmlformats.org/officeDocument/2006/relationships/slide" Target="slide5.xml"/><Relationship Id="rId5" Type="http://schemas.openxmlformats.org/officeDocument/2006/relationships/image" Target="../media/image20.jpeg"/><Relationship Id="rId6" Type="http://schemas.openxmlformats.org/officeDocument/2006/relationships/slide" Target="slide5.xml"/><Relationship Id="rId7" Type="http://schemas.openxmlformats.org/officeDocument/2006/relationships/image" Target="../media/image20.jpeg"/><Relationship Id="rId8" Type="http://schemas.openxmlformats.org/officeDocument/2006/relationships/slide" Target="slide5.xm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76120" y="1598400"/>
            <a:ext cx="2103480" cy="146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4d4d4d"/>
                </a:solidFill>
                <a:latin typeface="Arial"/>
              </a:rPr>
              <a:t>Pu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5220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b2b2b2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d4d4d"/>
                </a:solidFill>
                <a:latin typeface="Arial"/>
              </a:rPr>
              <a:t>Caratteri originali di un modello </a:t>
            </a:r>
            <a:br>
              <a:rPr sz="3200"/>
            </a:br>
            <a:r>
              <a:rPr b="1" i="1" lang="en-US" sz="3200" spc="-1" strike="noStrike">
                <a:solidFill>
                  <a:srgbClr val="4d4d4d"/>
                </a:solidFill>
                <a:latin typeface="Arial"/>
              </a:rPr>
              <a:t>di blended e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0"/>
            <a:ext cx="28810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960" cy="40968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b2b2b2">
                <a:alpha val="50000"/>
              </a:srgbClr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26040" y="2062080"/>
            <a:ext cx="671400" cy="6876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b2b2b2">
                <a:alpha val="5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5029200" y="1774800"/>
            <a:ext cx="2068560" cy="109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d4d4d"/>
                </a:solidFill>
                <a:latin typeface="Arial"/>
              </a:rPr>
              <a:t>ed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20626E-006 C 0.03941 0.41599 0.079 0.83199 0.12344 0.91287 C 0.16754 0.99398 0.21841 0.48691 0.26598 0.48575 C 0.31355 0.48459 0.36962 0.86628 0.40886 0.90615 C 0.44809 0.94601 0.46997 0.72515 0.50139 0.72561 C 0.53334 0.72608 0.57032 0.88923 0.59914 0.90846 C 0.6283 0.9277 0.65209 0.84218 0.67483 0.84079 C 0.69757 0.8394 0.71424 0.89247 0.73577 0.89966 C 0.7573 0.90684 0.78664 0.88459 0.80469 0.88459 C 0.82292 0.88459 0.82049 0.89711 0.8448 0.89966 C 0.8691 0.90221 0.93351 0.89919 0.9507 0.89966 E">
                                      <p:cBhvr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" y="936720"/>
            <a:ext cx="7619760" cy="5629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7640" y="2998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modello indust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835520" y="65160"/>
            <a:ext cx="4208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f7c9b"/>
                </a:solidFill>
                <a:latin typeface="Arial"/>
              </a:rPr>
              <a:t>Dibattito sull’e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24987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47520" y="1481040"/>
            <a:ext cx="3483000" cy="360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07040" y="1214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tusiasmo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1935000"/>
            <a:ext cx="257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nali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i mercat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2240" y="2120760"/>
            <a:ext cx="671400" cy="335160"/>
          </a:xfrm>
          <a:custGeom>
            <a:avLst/>
            <a:gdLst>
              <a:gd name="textAreaLeft" fmla="*/ 104760 w 671400"/>
              <a:gd name="textAreaRight" fmla="*/ 587520 w 671400"/>
              <a:gd name="textAreaTop" fmla="*/ 83880 h 335160"/>
              <a:gd name="textAreaBottom" fmla="*/ 251640 h 335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69696">
              <a:alpha val="52000"/>
            </a:srgbClr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31040" y="1946160"/>
            <a:ext cx="25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vestimento nell’e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6040" y="3119400"/>
            <a:ext cx="60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gione delle piattaforme tecnolog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38560" y="3819600"/>
            <a:ext cx="46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ttenzione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0520" y="4287960"/>
            <a:ext cx="46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tazione dei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92600" y="4659480"/>
            <a:ext cx="46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7920" y="504684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zazione delle interfac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72080" y="542772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 telematiche e satell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68840" y="584208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li televisivi e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556080" y="4362480"/>
            <a:ext cx="203040" cy="208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567240" y="4754520"/>
            <a:ext cx="203040" cy="20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567240" y="5119560"/>
            <a:ext cx="203040" cy="20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567240" y="5500800"/>
            <a:ext cx="203040" cy="207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567240" y="5913360"/>
            <a:ext cx="203040" cy="208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835520" y="65160"/>
            <a:ext cx="4208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Crisi dell’e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1752480" cy="947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6520" y="1685880"/>
            <a:ext cx="2428920" cy="1373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Knowled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73480"/>
            <a:ext cx="3519360" cy="113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EL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technology enhanced lear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258840" y="5005440"/>
            <a:ext cx="2041560" cy="520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67080" y="1371600"/>
            <a:ext cx="51973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l moltiplicarsi di sigle  e acroni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è un chiaro segnale di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ifficoltà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30520" y="3622680"/>
            <a:ext cx="49989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a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icerc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di un proprio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ingu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77960" y="1501920"/>
            <a:ext cx="1238040" cy="348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"/>
          <p:cNvSpPr/>
          <p:nvPr/>
        </p:nvSpPr>
        <p:spPr>
          <a:xfrm>
            <a:off x="2297160" y="1427040"/>
            <a:ext cx="650700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stemi social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sono tanto cambiati og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 richiedere un cambi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trettanto radic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 sottosistema educativ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4479840"/>
            <a:ext cx="2976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rebuchet MS"/>
              </a:rPr>
              <a:t>Cambi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rebuchet MS"/>
              </a:rPr>
              <a:t>della no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rebuchet MS"/>
              </a:rPr>
              <a:t>soc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4880" y="4789440"/>
            <a:ext cx="204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rebuchet MS"/>
              </a:rPr>
              <a:t>Svilu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rebuchet MS"/>
              </a:rPr>
              <a:t>delle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75280" y="4821120"/>
            <a:ext cx="958680" cy="1127160"/>
          </a:xfrm>
          <a:custGeom>
            <a:avLst/>
            <a:gdLst>
              <a:gd name="textAreaLeft" fmla="*/ 149760 w 958680"/>
              <a:gd name="textAreaRight" fmla="*/ 839160 w 958680"/>
              <a:gd name="textAreaTop" fmla="*/ 281880 h 1127160"/>
              <a:gd name="textAreaBottom" fmla="*/ 845640 h 1127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a888e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3600" y="31680"/>
            <a:ext cx="2867040" cy="800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Sistema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77960" y="1501920"/>
            <a:ext cx="1238040" cy="348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5" name=""/>
          <p:cNvSpPr/>
          <p:nvPr/>
        </p:nvSpPr>
        <p:spPr>
          <a:xfrm>
            <a:off x="1728720" y="2049480"/>
            <a:ext cx="4097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i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stem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di ord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uperiore camb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97160" y="4533840"/>
            <a:ext cx="5721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È necessario introdurr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dattamenti nei sottosistem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erché questi possano sopravviv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6079320" y="2599560"/>
            <a:ext cx="1187280" cy="1830240"/>
          </a:xfrm>
          <a:custGeom>
            <a:avLst/>
            <a:gdLst>
              <a:gd name="textAreaLeft" fmla="*/ 0 w 1187280"/>
              <a:gd name="textAreaRight" fmla="*/ 1187280 w 1187280"/>
              <a:gd name="textAreaTop" fmla="*/ 0 h 1830240"/>
              <a:gd name="textAreaBottom" fmla="*/ 1830600 h 1830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97c8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13600" y="31680"/>
            <a:ext cx="2867040" cy="800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Sistema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1663560"/>
            <a:ext cx="3038400" cy="2337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0" name=""/>
          <p:cNvSpPr/>
          <p:nvPr/>
        </p:nvSpPr>
        <p:spPr>
          <a:xfrm>
            <a:off x="3262320" y="1574640"/>
            <a:ext cx="5456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’ un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stema socia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73360" y="2257560"/>
            <a:ext cx="65548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entrato sullo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viluppo permanent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 sull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testazione della conoscenz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 dell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petenz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um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56120" y="4464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un particolare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78240" y="15840"/>
            <a:ext cx="57024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ICT- Ambiente di 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73640" y="5353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(R. Koper,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2040" y="309600"/>
            <a:ext cx="7172280" cy="441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Arial"/>
              </a:rPr>
              <a:t>Ambiente di apprendimento </a:t>
            </a:r>
            <a:r>
              <a:rPr b="1" lang="en-US" sz="2400" spc="-1" strike="noStrike">
                <a:solidFill>
                  <a:srgbClr val="004e4c"/>
                </a:solidFill>
                <a:latin typeface="Arial"/>
              </a:rPr>
              <a:t>on li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8960" y="1236600"/>
            <a:ext cx="8534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testazione della conoscenz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 dell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etenz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umane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320" y="3046320"/>
            <a:ext cx="279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li standar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d i LO detta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 regole della form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2874960"/>
            <a:ext cx="494676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ambiente di apprendimento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regola le modalità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di utilizzo dei learn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n un ambiente di apprendimento sono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centrali le attività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e non gli ogg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ambiente ospita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sottosistemi dedicati alla conoscenza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 knoweledge management, courseware (sistemi a legami forti), e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75000" y="3078000"/>
            <a:ext cx="1433520" cy="1281240"/>
          </a:xfrm>
          <a:prstGeom prst="leftRightArrow">
            <a:avLst>
              <a:gd name="adj1" fmla="val 50000"/>
              <a:gd name="adj2" fmla="val 22273"/>
            </a:avLst>
          </a:prstGeom>
          <a:solidFill>
            <a:srgbClr val="13594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2082600"/>
            <a:ext cx="822960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60.0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segnanti neoassunt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.s. 2001-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96.0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senanti FORTIC (attività di formazione in corso)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.s. 2002-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4.0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segnati Sperimentazione della Riform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.s. 2002-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.5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rigenti Scolastici a.s. 2003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06.0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segnanti  DM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98.0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segnanti Riforma (formazione in cor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2.140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oassunti 2004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39.968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sonale ATA (dato provviso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2520" y="90000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o degli ambienti di apprendi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ù popol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’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21000" y="111240"/>
            <a:ext cx="3295800" cy="799920"/>
          </a:xfrm>
          <a:prstGeom prst="rect">
            <a:avLst/>
          </a:prstGeom>
          <a:noFill/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4c"/>
                </a:solidFill>
                <a:latin typeface="Arial"/>
              </a:rPr>
              <a:t>I numeri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745080" y="5222880"/>
            <a:ext cx="1566720" cy="1049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61840" y="2271600"/>
            <a:ext cx="2311560" cy="1417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116760" y="2065320"/>
            <a:ext cx="2046240" cy="1803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26120" y="2070000"/>
            <a:ext cx="2030400" cy="1711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1880" y="2482920"/>
            <a:ext cx="117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Learning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00560" y="1762200"/>
            <a:ext cx="38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mbiente di apprendiment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10440" y="3022560"/>
            <a:ext cx="376200" cy="376200"/>
          </a:xfrm>
          <a:prstGeom prst="rect">
            <a:avLst/>
          </a:prstGeom>
          <a:ln w="0">
            <a:noFill/>
          </a:ln>
        </p:spPr>
      </p:pic>
      <p:cxnSp>
        <p:nvCxnSpPr>
          <p:cNvPr id="180" name=""/>
          <p:cNvCxnSpPr>
            <a:endCxn id="174" idx="2"/>
          </p:cNvCxnSpPr>
          <p:nvPr/>
        </p:nvCxnSpPr>
        <p:spPr>
          <a:xfrm rot="10800000">
            <a:off x="2017080" y="3688560"/>
            <a:ext cx="1775520" cy="2094840"/>
          </a:xfrm>
          <a:prstGeom prst="bentConnector2">
            <a:avLst/>
          </a:prstGeom>
          <a:ln w="5076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endCxn id="175" idx="2"/>
          </p:cNvCxnSpPr>
          <p:nvPr/>
        </p:nvCxnSpPr>
        <p:spPr>
          <a:xfrm flipV="1">
            <a:off x="5351400" y="3867840"/>
            <a:ext cx="1789920" cy="1915560"/>
          </a:xfrm>
          <a:prstGeom prst="bentConnector2">
            <a:avLst/>
          </a:prstGeom>
          <a:ln w="50760">
            <a:solidFill>
              <a:srgbClr val="5f5f5f"/>
            </a:solidFill>
            <a:miter/>
            <a:tailEnd len="med" type="triangle" w="med"/>
          </a:ln>
        </p:spPr>
      </p:cxn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970680" y="334008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7588080" y="3043080"/>
            <a:ext cx="376560" cy="376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2000" y="1798560"/>
            <a:ext cx="20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’a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800" y="18900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cuole ser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51400" y="4437000"/>
            <a:ext cx="20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 stu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84440" y="4952880"/>
            <a:ext cx="2148120" cy="1565280"/>
          </a:xfrm>
          <a:prstGeom prst="ellipse">
            <a:avLst/>
          </a:prstGeom>
          <a:noFill/>
          <a:ln w="38160">
            <a:solidFill>
              <a:srgbClr val="5f5f5f"/>
            </a:solidFill>
            <a:prstDash val="dash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835520" y="65160"/>
            <a:ext cx="4208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Le ICT n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0"/>
            <a:ext cx="2597040" cy="64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014560"/>
            <a:ext cx="3286080" cy="276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00560" y="1355760"/>
            <a:ext cx="35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5f5f5f"/>
                </a:solidFill>
                <a:latin typeface="Trebuchet MS"/>
              </a:rPr>
              <a:t> f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5240" y="2351160"/>
            <a:ext cx="60087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averso cui è pass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’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serimento delle I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ella scuola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0800" y="5224320"/>
            <a:ext cx="6431040" cy="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811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a363"/>
                </a:solidFill>
                <a:latin typeface="Arial"/>
              </a:rPr>
              <a:t>1°</a:t>
            </a:r>
            <a:r>
              <a:rPr b="1" lang="en-US" sz="2000" spc="-1" strike="noStrike">
                <a:solidFill>
                  <a:srgbClr val="47a363"/>
                </a:solidFill>
                <a:latin typeface="Arial"/>
              </a:rPr>
              <a:t> per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5400" y="58402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806d"/>
                </a:solidFill>
                <a:latin typeface="Arial"/>
              </a:rPr>
              <a:t>2°</a:t>
            </a:r>
            <a:r>
              <a:rPr b="1" lang="en-US" sz="2000" spc="-1" strike="noStrike">
                <a:solidFill>
                  <a:srgbClr val="1a806d"/>
                </a:solidFill>
                <a:latin typeface="Arial"/>
              </a:rPr>
              <a:t> per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94600" y="587520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7c83"/>
                </a:solidFill>
                <a:latin typeface="Arial"/>
              </a:rPr>
              <a:t>3°</a:t>
            </a:r>
            <a:r>
              <a:rPr b="1" lang="en-US" sz="2000" spc="-1" strike="noStrike">
                <a:solidFill>
                  <a:srgbClr val="497c83"/>
                </a:solidFill>
                <a:latin typeface="Arial"/>
              </a:rPr>
              <a:t> per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flipV="1" rot="5400000">
            <a:off x="1105200" y="5482080"/>
            <a:ext cx="613440" cy="78480"/>
          </a:xfrm>
          <a:prstGeom prst="bentConnector3">
            <a:avLst>
              <a:gd name="adj1" fmla="val 37287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H="1" flipV="1" rot="5400000">
            <a:off x="4092840" y="5485320"/>
            <a:ext cx="565920" cy="78480"/>
          </a:xfrm>
          <a:prstGeom prst="bentConnector3">
            <a:avLst>
              <a:gd name="adj1" fmla="val 4042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 flipH="1" flipV="1" rot="5400000">
            <a:off x="6964920" y="5467680"/>
            <a:ext cx="565920" cy="78480"/>
          </a:xfrm>
          <a:prstGeom prst="bentConnector3">
            <a:avLst>
              <a:gd name="adj1" fmla="val 4042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p:transition spd="slow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45080" y="5222880"/>
            <a:ext cx="1566720" cy="1049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30360" y="2536920"/>
            <a:ext cx="1455480" cy="89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147080" y="2200320"/>
            <a:ext cx="1668240" cy="1469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156440" y="2205000"/>
            <a:ext cx="1554120" cy="1395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2200320"/>
            <a:ext cx="126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Learning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237440" y="2905200"/>
            <a:ext cx="306360" cy="306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548160" y="4997520"/>
            <a:ext cx="2016000" cy="1522440"/>
          </a:xfrm>
          <a:prstGeom prst="ellipse">
            <a:avLst/>
          </a:prstGeom>
          <a:noFill/>
          <a:ln w="38160">
            <a:solidFill>
              <a:srgbClr val="5f5f5f"/>
            </a:solidFill>
            <a:prstDash val="dash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7639200" y="32749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8388360" y="2851200"/>
            <a:ext cx="306360" cy="306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1640" y="206388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’a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00" y="189000"/>
            <a:ext cx="30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Il ruolo dell’insegn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51400" y="468000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o stu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3666960" y="1785960"/>
            <a:ext cx="1808280" cy="1643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rot="1906800">
            <a:off x="6973560" y="2669760"/>
            <a:ext cx="1393920" cy="1065240"/>
          </a:xfrm>
          <a:prstGeom prst="ellipse">
            <a:avLst/>
          </a:prstGeom>
          <a:noFill/>
          <a:ln w="63360">
            <a:solidFill>
              <a:srgbClr val="339966"/>
            </a:solidFill>
            <a:prstDash val="dash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200" idx="3"/>
            <a:endCxn id="201" idx="2"/>
          </p:cNvCxnSpPr>
          <p:nvPr/>
        </p:nvCxnSpPr>
        <p:spPr>
          <a:xfrm>
            <a:off x="5474880" y="2608200"/>
            <a:ext cx="1577160" cy="210240"/>
          </a:xfrm>
          <a:prstGeom prst="bentConnector3">
            <a:avLst>
              <a:gd name="adj1" fmla="val 41872"/>
            </a:avLst>
          </a:prstGeom>
          <a:ln w="507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5494320" y="306216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elezio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1" idx="5"/>
            <a:endCxn id="194" idx="6"/>
          </p:cNvCxnSpPr>
          <p:nvPr/>
        </p:nvCxnSpPr>
        <p:spPr>
          <a:xfrm rot="5400000">
            <a:off x="5752440" y="3638160"/>
            <a:ext cx="1951560" cy="2291400"/>
          </a:xfrm>
          <a:prstGeom prst="bentConnector2">
            <a:avLst/>
          </a:prstGeom>
          <a:ln w="50760">
            <a:solidFill>
              <a:srgbClr val="ff9900"/>
            </a:solidFill>
            <a:miter/>
            <a:headEnd len="med" type="triangle" w="med"/>
          </a:ln>
        </p:spPr>
      </p:cxnSp>
      <p:cxnSp>
        <p:nvCxnSpPr>
          <p:cNvPr id="205" name=""/>
          <p:cNvCxnSpPr>
            <a:stCxn id="200" idx="1"/>
            <a:endCxn id="189" idx="3"/>
          </p:cNvCxnSpPr>
          <p:nvPr/>
        </p:nvCxnSpPr>
        <p:spPr>
          <a:xfrm flipV="1" rot="10800000">
            <a:off x="2085120" y="2607120"/>
            <a:ext cx="1581840" cy="375480"/>
          </a:xfrm>
          <a:prstGeom prst="bentConnector3">
            <a:avLst>
              <a:gd name="adj1" fmla="val 49988"/>
            </a:avLst>
          </a:prstGeom>
          <a:ln w="507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89" idx="2"/>
            <a:endCxn id="194" idx="2"/>
          </p:cNvCxnSpPr>
          <p:nvPr/>
        </p:nvCxnSpPr>
        <p:spPr>
          <a:xfrm flipH="1" rot="16200000">
            <a:off x="1278720" y="3508560"/>
            <a:ext cx="2331000" cy="2170800"/>
          </a:xfrm>
          <a:prstGeom prst="bentConnector2">
            <a:avLst/>
          </a:prstGeom>
          <a:ln w="50760">
            <a:solidFill>
              <a:srgbClr val="ff9900"/>
            </a:solidFill>
            <a:miter/>
            <a:head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6159600" y="1644480"/>
            <a:ext cx="32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mbiente di apprendimen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’utilizzo dei Learn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89640" y="1574640"/>
            <a:ext cx="2279520" cy="2845080"/>
          </a:xfrm>
          <a:prstGeom prst="rect">
            <a:avLst/>
          </a:prstGeom>
          <a:solidFill>
            <a:srgbClr val="ffcc81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55720" y="1716120"/>
            <a:ext cx="3116160" cy="2747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624720" y="2063880"/>
            <a:ext cx="1771560" cy="901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715080" y="3070080"/>
            <a:ext cx="1587600" cy="1079640"/>
          </a:xfrm>
          <a:prstGeom prst="rect">
            <a:avLst/>
          </a:prstGeom>
          <a:ln w="0">
            <a:noFill/>
          </a:ln>
        </p:spPr>
      </p:pic>
      <p:cxnSp>
        <p:nvCxnSpPr>
          <p:cNvPr id="213" name=""/>
          <p:cNvCxnSpPr>
            <a:stCxn id="214" idx="0"/>
            <a:endCxn id="210" idx="2"/>
          </p:cNvCxnSpPr>
          <p:nvPr/>
        </p:nvCxnSpPr>
        <p:spPr>
          <a:xfrm flipV="1" rot="16200000">
            <a:off x="2666520" y="4210920"/>
            <a:ext cx="876960" cy="1382040"/>
          </a:xfrm>
          <a:prstGeom prst="bentConnector3">
            <a:avLst>
              <a:gd name="adj1" fmla="val 49979"/>
            </a:avLst>
          </a:prstGeom>
          <a:ln w="507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5" name=""/>
          <p:cNvCxnSpPr>
            <a:stCxn id="216" idx="3"/>
            <a:endCxn id="212" idx="1"/>
          </p:cNvCxnSpPr>
          <p:nvPr/>
        </p:nvCxnSpPr>
        <p:spPr>
          <a:xfrm>
            <a:off x="3952440" y="3188880"/>
            <a:ext cx="2763000" cy="421560"/>
          </a:xfrm>
          <a:prstGeom prst="bentConnector3">
            <a:avLst>
              <a:gd name="adj1" fmla="val 33150"/>
            </a:avLst>
          </a:prstGeom>
          <a:ln w="507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7" name=""/>
          <p:cNvCxnSpPr>
            <a:stCxn id="216" idx="3"/>
            <a:endCxn id="211" idx="1"/>
          </p:cNvCxnSpPr>
          <p:nvPr/>
        </p:nvCxnSpPr>
        <p:spPr>
          <a:xfrm flipV="1">
            <a:off x="3952800" y="2514240"/>
            <a:ext cx="2672640" cy="675360"/>
          </a:xfrm>
          <a:prstGeom prst="bentConnector3">
            <a:avLst>
              <a:gd name="adj1" fmla="val 34217"/>
            </a:avLst>
          </a:prstGeom>
          <a:ln w="507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6324480" y="1900080"/>
            <a:ext cx="293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rmazione in presenz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i grup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35480" y="2698920"/>
            <a:ext cx="130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Utilizzo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i strumenti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1840" y="1919160"/>
            <a:ext cx="3090960" cy="2540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11600" y="5459400"/>
            <a:ext cx="156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ormazion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a remo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dividu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84280" y="2838600"/>
            <a:ext cx="17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earning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0280" y="119052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mbiente di apprendimen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ultimed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232080" y="3578400"/>
            <a:ext cx="417600" cy="417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1135080" y="3621240"/>
            <a:ext cx="417600" cy="417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2125800" y="3381480"/>
            <a:ext cx="417240" cy="417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3011400" y="5340240"/>
            <a:ext cx="1567080" cy="104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482920" y="1217520"/>
            <a:ext cx="4181400" cy="1538280"/>
          </a:xfrm>
          <a:prstGeom prst="roundRect">
            <a:avLst>
              <a:gd name="adj" fmla="val 16667"/>
            </a:avLst>
          </a:prstGeom>
          <a:solidFill>
            <a:srgbClr val="ffcf8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92480" y="1073160"/>
            <a:ext cx="403200" cy="40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9" name=""/>
          <p:cNvSpPr/>
          <p:nvPr/>
        </p:nvSpPr>
        <p:spPr>
          <a:xfrm>
            <a:off x="546120" y="2048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’ambiente di apprendimento on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2360" y="1436760"/>
            <a:ext cx="36576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oltiplicazione e sottrazione di vet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omma di vet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Grandezze scalari e vettori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71760" y="3149640"/>
            <a:ext cx="4110120" cy="85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75000" y="4352760"/>
            <a:ext cx="4110120" cy="8575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3451320"/>
            <a:ext cx="30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razioni algebr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4880" y="4657680"/>
            <a:ext cx="25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ock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78240" y="5656320"/>
            <a:ext cx="4109760" cy="857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60840" y="5919840"/>
            <a:ext cx="36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nalizzare un testo sto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60440" y="2911320"/>
            <a:ext cx="403560" cy="40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35240" y="4186080"/>
            <a:ext cx="403200" cy="40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238480" y="5504040"/>
            <a:ext cx="403200" cy="40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0" name=""/>
          <p:cNvSpPr/>
          <p:nvPr/>
        </p:nvSpPr>
        <p:spPr>
          <a:xfrm>
            <a:off x="2757600" y="105876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i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46440" y="293364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ate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6440" y="417672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gl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6440" y="546264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4360" y="2458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istema di produzione multimediale diff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116680" y="1814400"/>
            <a:ext cx="3976560" cy="4489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059440" y="1755720"/>
            <a:ext cx="4084560" cy="44848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48" idx="3"/>
            <a:endCxn id="249" idx="1"/>
          </p:cNvCxnSpPr>
          <p:nvPr/>
        </p:nvCxnSpPr>
        <p:spPr>
          <a:xfrm flipV="1">
            <a:off x="3981600" y="2548800"/>
            <a:ext cx="2194560" cy="205560"/>
          </a:xfrm>
          <a:prstGeom prst="bentConnector3">
            <a:avLst>
              <a:gd name="adj1" fmla="val 49991"/>
            </a:avLst>
          </a:prstGeom>
          <a:ln w="507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0" y="0"/>
            <a:ext cx="663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52" idx="1"/>
            <a:endCxn id="248" idx="2"/>
          </p:cNvCxnSpPr>
          <p:nvPr/>
        </p:nvCxnSpPr>
        <p:spPr>
          <a:xfrm rot="10800000">
            <a:off x="2328120" y="4328280"/>
            <a:ext cx="4707720" cy="1490040"/>
          </a:xfrm>
          <a:prstGeom prst="bentConnector2">
            <a:avLst/>
          </a:prstGeom>
          <a:ln w="507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"/>
          <p:cNvCxnSpPr>
            <a:stCxn id="254" idx="1"/>
            <a:endCxn id="248" idx="3"/>
          </p:cNvCxnSpPr>
          <p:nvPr/>
        </p:nvCxnSpPr>
        <p:spPr>
          <a:xfrm rot="10800000">
            <a:off x="3980880" y="2753640"/>
            <a:ext cx="2589840" cy="1508760"/>
          </a:xfrm>
          <a:prstGeom prst="bentConnector3">
            <a:avLst>
              <a:gd name="adj1" fmla="val 49965"/>
            </a:avLst>
          </a:prstGeom>
          <a:ln w="507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008840" y="5005440"/>
            <a:ext cx="1055520" cy="5572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7035840" y="5551560"/>
            <a:ext cx="981000" cy="533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745080" y="5413320"/>
            <a:ext cx="21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mplemen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65280" y="1174680"/>
            <a:ext cx="3335400" cy="3159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4640" y="1179360"/>
            <a:ext cx="3306960" cy="3149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3046320" y="322884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300320" y="2576520"/>
            <a:ext cx="20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Learning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6880" y="885960"/>
            <a:ext cx="314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mbiente di apprendimen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1166760" y="318924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6148440" y="1751040"/>
            <a:ext cx="1055520" cy="5572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6175440" y="2282760"/>
            <a:ext cx="981000" cy="533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0"/>
          <a:stretch/>
        </p:blipFill>
        <p:spPr>
          <a:xfrm>
            <a:off x="6543720" y="3435480"/>
            <a:ext cx="1055520" cy="55692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11"/>
          <a:stretch/>
        </p:blipFill>
        <p:spPr>
          <a:xfrm>
            <a:off x="6570720" y="3995640"/>
            <a:ext cx="981000" cy="533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842000" y="4346640"/>
            <a:ext cx="161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mplemen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3160" y="2103480"/>
            <a:ext cx="161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mplemen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99280" y="1001880"/>
            <a:ext cx="1887480" cy="1190520"/>
          </a:xfrm>
          <a:prstGeom prst="foldedCorner">
            <a:avLst>
              <a:gd name="adj" fmla="val 12500"/>
            </a:avLst>
          </a:prstGeom>
          <a:solidFill>
            <a:srgbClr val="da7d0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9040" y="1144440"/>
            <a:ext cx="19177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dazioni multimediali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centrate costituit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 docenti e s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69" idx="2"/>
            <a:endCxn id="264" idx="3"/>
          </p:cNvCxnSpPr>
          <p:nvPr/>
        </p:nvCxnSpPr>
        <p:spPr>
          <a:xfrm rot="5400000">
            <a:off x="7470720" y="1877040"/>
            <a:ext cx="357840" cy="988200"/>
          </a:xfrm>
          <a:prstGeom prst="bentConnector2">
            <a:avLst/>
          </a:prstGeom>
          <a:ln w="38160">
            <a:solidFill>
              <a:srgbClr val="cc6600"/>
            </a:solidFill>
            <a:miter/>
          </a:ln>
        </p:spPr>
      </p:cxnSp>
      <p:cxnSp>
        <p:nvCxnSpPr>
          <p:cNvPr id="272" name=""/>
          <p:cNvCxnSpPr>
            <a:stCxn id="269" idx="2"/>
            <a:endCxn id="266" idx="3"/>
          </p:cNvCxnSpPr>
          <p:nvPr/>
        </p:nvCxnSpPr>
        <p:spPr>
          <a:xfrm rot="5400000">
            <a:off x="6811920" y="2931120"/>
            <a:ext cx="2070720" cy="592920"/>
          </a:xfrm>
          <a:prstGeom prst="bentConnector2">
            <a:avLst/>
          </a:prstGeom>
          <a:ln w="44280">
            <a:solidFill>
              <a:srgbClr val="cc6600"/>
            </a:solidFill>
            <a:miter/>
          </a:ln>
        </p:spPr>
      </p:cxnSp>
      <p:cxnSp>
        <p:nvCxnSpPr>
          <p:cNvPr id="273" name=""/>
          <p:cNvCxnSpPr>
            <a:stCxn id="269" idx="2"/>
            <a:endCxn id="256" idx="3"/>
          </p:cNvCxnSpPr>
          <p:nvPr/>
        </p:nvCxnSpPr>
        <p:spPr>
          <a:xfrm rot="5400000">
            <a:off x="6266520" y="3941640"/>
            <a:ext cx="3626640" cy="127800"/>
          </a:xfrm>
          <a:prstGeom prst="bentConnector2">
            <a:avLst/>
          </a:prstGeom>
          <a:ln w="38160">
            <a:solidFill>
              <a:srgbClr val="cc6600"/>
            </a:solidFill>
            <a:miter/>
          </a:ln>
        </p:spPr>
      </p:cxnSp>
      <p:pic>
        <p:nvPicPr>
          <p:cNvPr id="274" name="" descr=""/>
          <p:cNvPicPr/>
          <p:nvPr/>
        </p:nvPicPr>
        <p:blipFill>
          <a:blip r:embed="rId12"/>
          <a:stretch/>
        </p:blipFill>
        <p:spPr>
          <a:xfrm>
            <a:off x="2098800" y="3549600"/>
            <a:ext cx="479160" cy="479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" y="0"/>
            <a:ext cx="2597040" cy="64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4038480" cy="6576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66800" y="2952360"/>
            <a:ext cx="5981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ime esperienze sull’utilizzo del LOGO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… nella scuola elementare e 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4411800"/>
            <a:ext cx="162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e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1680" y="266760"/>
            <a:ext cx="2171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matica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x25, ITAPAC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i Multipo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032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62280"/>
            <a:ext cx="19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Reti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proprietarie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(SNA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2760" y="4514760"/>
            <a:ext cx="651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ano nazionale dell’informa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affidato agli insegnanti di matematica  nelle scuole superi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grammazione in linguaggio PAS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520" y="5562720"/>
            <a:ext cx="1628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4960" y="1173240"/>
            <a:ext cx="53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rebuchet MS"/>
              </a:rPr>
              <a:t>Computer</a:t>
            </a:r>
            <a:r>
              <a:rPr b="1" lang="en-US" sz="2400" spc="-1" strike="noStrike">
                <a:solidFill>
                  <a:srgbClr val="333333"/>
                </a:solidFill>
                <a:latin typeface="Trebuchet MS"/>
              </a:rPr>
              <a:t> = </a:t>
            </a:r>
            <a:r>
              <a:rPr b="1" lang="en-US" sz="2400" spc="-1" strike="noStrike">
                <a:solidFill>
                  <a:srgbClr val="a50021"/>
                </a:solidFill>
                <a:latin typeface="Trebuchet MS"/>
              </a:rPr>
              <a:t>Infor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9560" y="1978200"/>
            <a:ext cx="591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rebuchet MS"/>
              </a:rPr>
              <a:t>Utilizzo del computer</a:t>
            </a:r>
            <a:r>
              <a:rPr b="1" lang="en-US" sz="2400" spc="-1" strike="noStrike">
                <a:solidFill>
                  <a:srgbClr val="333333"/>
                </a:solidFill>
                <a:latin typeface="Trebuchet MS"/>
              </a:rPr>
              <a:t> = </a:t>
            </a:r>
            <a:r>
              <a:rPr b="1" lang="en-US" sz="2400" spc="-1" strike="noStrike">
                <a:solidFill>
                  <a:srgbClr val="a50021"/>
                </a:solidFill>
                <a:latin typeface="Trebuchet MS"/>
              </a:rPr>
              <a:t>Infor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35520" y="65160"/>
            <a:ext cx="4208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Le ICT n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1762200" y="0"/>
            <a:ext cx="4259160" cy="658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880920"/>
            <a:ext cx="2816280" cy="520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925640"/>
            <a:ext cx="2816280" cy="520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27240" y="1436760"/>
            <a:ext cx="536436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è più necess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re il computer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ffusione di Windows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44960" y="3889440"/>
            <a:ext cx="5813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tilizzo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iffuso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del computer e della r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lla didattica nelle diverse discip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9560" y="5357880"/>
            <a:ext cx="1468440" cy="520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35520" y="65160"/>
            <a:ext cx="4208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Le ICT n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41560" y="5176800"/>
            <a:ext cx="620712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l computer nei laboratori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" y="0"/>
            <a:ext cx="2597040" cy="64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100080" y="1652760"/>
            <a:ext cx="3505320" cy="336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8280" y="4732200"/>
            <a:ext cx="2830680" cy="11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lle I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3320" y="1176480"/>
            <a:ext cx="2830320" cy="8236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mpa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35520" y="65160"/>
            <a:ext cx="4208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Le ICT n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59080" y="1236600"/>
            <a:ext cx="4543560" cy="581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gu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92640" y="4438800"/>
            <a:ext cx="51973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e il comput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uò entr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lla didattica disciplina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365640" y="2123640"/>
            <a:ext cx="50608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segnar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filosof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matematica, la storia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 la religione con il comput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35520" y="65160"/>
            <a:ext cx="4208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Le ICT n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-380880" y="804960"/>
            <a:ext cx="9413640" cy="564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</p:pic>
      <p:sp>
        <p:nvSpPr>
          <p:cNvPr id="89" name=""/>
          <p:cNvSpPr/>
          <p:nvPr/>
        </p:nvSpPr>
        <p:spPr>
          <a:xfrm>
            <a:off x="212760" y="420840"/>
            <a:ext cx="2544840" cy="8254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ibattito degli ultimi 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7080" y="6100920"/>
            <a:ext cx="2724120" cy="459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 prim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240" y="1697040"/>
            <a:ext cx="7404120" cy="25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USA -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nitoraggio sul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: Reale utilizzo a scuola dei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l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9%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dei ragazzi che frequentano il corrispondente della no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cuola elementare, usa il computer con continuit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l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60%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non l’ha mai usato a scuola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3414600"/>
            <a:ext cx="79549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California Instructional Technology Clearing House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affer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i="1" lang="it-IT" sz="1800" spc="-1" strike="noStrike">
                <a:solidFill>
                  <a:srgbClr val="000000"/>
                </a:solidFill>
                <a:latin typeface="Trebuchet MS"/>
              </a:rPr>
              <a:t>prodotti software</a:t>
            </a: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 a disposizione degli studenti sono </a:t>
            </a:r>
            <a:r>
              <a:rPr b="1" i="1" lang="it-IT" sz="1800" spc="-1" strike="noStrike">
                <a:solidFill>
                  <a:srgbClr val="000000"/>
                </a:solidFill>
                <a:latin typeface="Trebuchet MS"/>
              </a:rPr>
              <a:t>scadenti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giud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rebuchet MS"/>
              </a:rPr>
              <a:t>Exemplary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 il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6-8%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dei prodotti esaminat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rebuchet MS"/>
              </a:rPr>
              <a:t>Desirable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il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33-47%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dei prodotti esamin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380880" y="804960"/>
            <a:ext cx="9413640" cy="5648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35520" y="65160"/>
            <a:ext cx="4208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Le ITC n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25440" y="1812960"/>
            <a:ext cx="65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T. Oppenheir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afferma … “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Illusione dei computer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39840" y="2379600"/>
            <a:ext cx="663264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l libro</a:t>
            </a:r>
            <a:r>
              <a:rPr b="1" i="1" lang="it-IT" sz="1800" spc="-1" strike="noStrike">
                <a:solidFill>
                  <a:srgbClr val="000000"/>
                </a:solidFill>
                <a:latin typeface="Trebuchet MS"/>
              </a:rPr>
              <a:t> … </a:t>
            </a: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The flickering mind: the false promise of technology in the classroom</a:t>
            </a:r>
            <a:r>
              <a:rPr b="1" i="1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denuncia che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I computer non hanno salvato l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35160" y="3784680"/>
            <a:ext cx="62593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National science teacher association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Apre un dibattito “</a:t>
            </a:r>
            <a:r>
              <a:rPr b="1" i="1" lang="it-IT" sz="2000" spc="-1" strike="noStrike">
                <a:solidFill>
                  <a:srgbClr val="000000"/>
                </a:solidFill>
                <a:latin typeface="Trebuchet MS"/>
              </a:rPr>
              <a:t>Perché non siamo riusciti efficace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rebuchet MS"/>
              </a:rPr>
              <a:t>ad integrare la tecnologia nelle nostre scuole?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20840"/>
            <a:ext cx="2544840" cy="8254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ibattito degli ultimi 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7080" y="6100920"/>
            <a:ext cx="2724120" cy="459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 prim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380880" y="804960"/>
            <a:ext cx="9413640" cy="5648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35520" y="65160"/>
            <a:ext cx="4208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c9b"/>
                </a:solidFill>
                <a:latin typeface="Arial"/>
              </a:rPr>
              <a:t>Le ITC n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9160" y="1797120"/>
            <a:ext cx="6553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ernational Journal of education technology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duce un’analisi …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Preoccupazione degli insegn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nei confronti della 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70080" y="3352680"/>
            <a:ext cx="631008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eoria delle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afford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e tecnologie accrescono l’apprendimento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tenzialmente SI 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abilmente NO 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e tecnologie non hanno effetti intrinsechi bensì presentano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ndizioni di inne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760" y="420840"/>
            <a:ext cx="2544840" cy="8254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ibattito degli ultimi 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7080" y="6100920"/>
            <a:ext cx="2724120" cy="459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 prim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2360" y="266760"/>
            <a:ext cx="1697040" cy="1154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7" name=""/>
          <p:cNvSpPr/>
          <p:nvPr/>
        </p:nvSpPr>
        <p:spPr>
          <a:xfrm>
            <a:off x="5481720" y="31680"/>
            <a:ext cx="35989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3964" dir="1863564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f7c9b"/>
                </a:solidFill>
                <a:latin typeface="Arial"/>
              </a:rPr>
              <a:t>Le Ict n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27160" y="101916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l tempo la scu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erva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tegr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il suo “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mbient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11560" y="2816280"/>
            <a:ext cx="46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dalità di comunicazio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 interazione con gli alli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36760" y="3879720"/>
            <a:ext cx="37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uolo dell’inseg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19480" y="4559400"/>
            <a:ext cx="37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uolo dello stu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94040" y="2967120"/>
            <a:ext cx="230040" cy="23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846520" y="3952800"/>
            <a:ext cx="23004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765520" y="4670280"/>
            <a:ext cx="230040" cy="236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230480" y="2476440"/>
            <a:ext cx="1257120" cy="114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68200" y="4840200"/>
            <a:ext cx="1528920" cy="777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"/>
          <p:cNvSpPr/>
          <p:nvPr/>
        </p:nvSpPr>
        <p:spPr>
          <a:xfrm>
            <a:off x="2879640" y="533880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gramma scolastico (sequenzi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2514600" y="5465880"/>
            <a:ext cx="23004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1:37:47Z</dcterms:created>
  <dc:creator>Win</dc:creator>
  <dc:description/>
  <dc:language>en-US</dc:language>
  <cp:lastModifiedBy>win</cp:lastModifiedBy>
  <dcterms:modified xsi:type="dcterms:W3CDTF">2005-04-04T16:28:12Z</dcterms:modified>
  <cp:revision>180</cp:revision>
  <dc:subject/>
  <dc:title>PuntoEdu</dc:title>
</cp:coreProperties>
</file>